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13.jpeg" ContentType="image/jpeg"/>
  <Override PartName="/ppt/media/image20.png" ContentType="image/png"/>
  <Override PartName="/ppt/media/image10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7.jpeg" ContentType="image/jpeg"/>
  <Override PartName="/ppt/media/image45.wmf" ContentType="image/x-wm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34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53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4.png" ContentType="image/png"/>
  <Override PartName="/ppt/media/image11.gif" ContentType="image/gif"/>
  <Override PartName="/ppt/media/image44.wmf" ContentType="image/x-wmf"/>
  <Override PartName="/ppt/media/image12.png" ContentType="image/png"/>
  <Override PartName="/ppt/media/image32.png" ContentType="image/png"/>
  <Override PartName="/ppt/media/image33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6.wmf" ContentType="image/x-wmf"/>
  <Override PartName="/ppt/media/image69.jpeg" ContentType="image/jpeg"/>
  <Override PartName="/ppt/media/image18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91160"/>
            <a:ext cx="494676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4E2-3BB8-4003-A17D-420DA1734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a bad job often gives better sc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thing happens if a slower CPU is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is little number juggle we not only learn that bad programs scale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ing that processing data in big chunks gives better speedup we conclude that the more coarse grained our parallelization is, the better performance we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point is true also for shared memory approaches but the second and the third are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hardware vendors, software vendors, academic and industrial researchers took part in developing M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de facto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is continu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mpilers allow you to specify a default number of pro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o notice that mpprun does not always pick up path variables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 forget to have a slide or two explaining how to run a mpi program in the environment used for the workshop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also use mpirun on the Cray-t3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I does not specify mpirun. But does specify an optional mpiexec (check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your measure of success we are one of the best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tables we appear around 5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857-428E-4F61-B963-E879432E8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D145-BFC9-4E15-9C76-A1B87E1CFE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522-A1B8-42F1-89E5-E2D514849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chester Computing - was MCC - was UMR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cademic ser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vier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Academia on the National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Distribution and 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38480" cy="3703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B4E-612D-43AA-8973-6E44BB52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3E6-2187-4982-A52E-4E0330C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477-F465-4591-9187-3DB23093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8E4-56A1-44ED-9056-08750DF6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76F-6D2F-4FA2-9D6D-57B73811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0D2-1187-4F95-988C-86F3A44B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969-DB4E-41E4-B5E7-F0FB1FC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9B5-186D-4932-84DE-D07A737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B9B-F27E-48A3-A5AC-C13F9AE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D2E-2A09-4D19-8F56-93481FA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FC5E-56E2-4CC2-8FFB-47D5A84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8E3-8F98-4524-970C-1EE465A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3BA-CEC5-474C-9BE2-597B07D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61C-7EB9-442D-B6CA-2FADA3A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FE1-CF16-42F5-A166-A81775CF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D6A-AB8B-475F-9882-E28911C9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6271-11D9-43B7-8508-6E96034B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A49-BEFF-4752-9891-B66AE13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EC5-9BA8-4082-85F0-88774D2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660-EDD9-41EB-8431-AC080FFD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189-AD87-43C9-821D-A587F289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749-3ADE-4D61-A8A8-56DA26E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BA9-7578-4AB3-B1A3-C892C48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B67-2105-4302-95F8-24429DF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CDD6-1B6F-47AF-B9CC-A34CE224B3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1523880"/>
            <a:ext cx="69343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3880"/>
            <a:ext cx="15264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248520"/>
            <a:ext cx="85345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mvclogo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9" name="mrccs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74780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D38-8ED3-4CAE-85B0-3C82CAF5E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14400"/>
            <a:ext cx="6705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914400"/>
            <a:ext cx="15228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867280"/>
            <a:ext cx="83059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vclogo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mrccs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747800" cy="446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image" Target="../media/image39.png"/><Relationship Id="rId22" Type="http://schemas.openxmlformats.org/officeDocument/2006/relationships/image" Target="../media/image39.png"/><Relationship Id="rId23" Type="http://schemas.openxmlformats.org/officeDocument/2006/relationships/image" Target="../media/image39.png"/><Relationship Id="rId24" Type="http://schemas.openxmlformats.org/officeDocument/2006/relationships/image" Target="../media/image39.png"/><Relationship Id="rId25" Type="http://schemas.openxmlformats.org/officeDocument/2006/relationships/image" Target="../media/image39.pn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image" Target="../media/image39.png"/><Relationship Id="rId29" Type="http://schemas.openxmlformats.org/officeDocument/2006/relationships/image" Target="../media/image39.png"/><Relationship Id="rId30" Type="http://schemas.openxmlformats.org/officeDocument/2006/relationships/image" Target="../media/image39.png"/><Relationship Id="rId31" Type="http://schemas.openxmlformats.org/officeDocument/2006/relationships/image" Target="../media/image39.png"/><Relationship Id="rId32" Type="http://schemas.openxmlformats.org/officeDocument/2006/relationships/image" Target="../media/image39.png"/><Relationship Id="rId33" Type="http://schemas.openxmlformats.org/officeDocument/2006/relationships/image" Target="../media/image39.png"/><Relationship Id="rId34" Type="http://schemas.openxmlformats.org/officeDocument/2006/relationships/image" Target="../media/image39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6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have the Earths' Mantle &amp; an Egyptian Mummy in Common? 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rector Manchester Visualization Cent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SAR User Services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1" name="uom" descr=""/>
          <p:cNvPicPr/>
          <p:nvPr/>
        </p:nvPicPr>
        <p:blipFill>
          <a:blip r:embed="rId1"/>
          <a:stretch/>
        </p:blipFill>
        <p:spPr>
          <a:xfrm>
            <a:off x="1219320" y="5067360"/>
            <a:ext cx="7327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chine Room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ray T3E-1200E, 816 PE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jitsu VPP300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,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BM SP2 90 P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GI Intel IA-64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rigin2000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CSAR),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4 PE (Hillier/Hewitt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Brass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0 PE (Local HPC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8 PE (NOVI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n E6500 24 PE (MIMAS),  E4500, E4000 (JSTO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100 PCs for service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wo tape Silos (150 TB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5DE-6EBF-46AD-A47F-F14ECC84F8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anchester Visualization Cent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raphics,  visualization, multimedia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image processing &amp;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ince 19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VIP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40 CPU Origi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6 x InfiniteReality 3 Graphics Pip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Panoram GVR 120 ( Cylindrical Screen,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Three Electrahome Projectors, Active Ster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he International AVS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eaching &amp; Supervising MSc &amp; Ph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DCP_1614" descr=""/>
          <p:cNvPicPr/>
          <p:nvPr/>
        </p:nvPicPr>
        <p:blipFill>
          <a:blip r:embed="rId1"/>
          <a:stretch/>
        </p:blipFill>
        <p:spPr>
          <a:xfrm>
            <a:off x="5410080" y="4379760"/>
            <a:ext cx="3733920" cy="2478240"/>
          </a:xfrm>
          <a:prstGeom prst="rect">
            <a:avLst/>
          </a:prstGeom>
          <a:ln w="0">
            <a:noFill/>
          </a:ln>
        </p:spPr>
      </p:pic>
      <p:pic>
        <p:nvPicPr>
          <p:cNvPr id="219" name="DCP_1615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0B1-EA89-4432-90B6-1A9F793F22D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990720"/>
            <a:ext cx="25909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search &amp; Development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cientific visualiz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PC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tributed &amp; Meta Comput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sets &amp; data min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igh Performance Computing Technolog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igh speed Wide Area Network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URBS, Anim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3D Graphics, Radiosity, &amp; Ray-trac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WW &amp; Collaborative work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3" name="Ag00011_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4940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4B9-1D87-4A58-B716-CA0C73F3B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evelop the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/Expres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5 Module Repositori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age the IAC Web Sit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lected Research Projects on behalf of AVS Inc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pport User Group Activit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icipate in AVS Product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Solution Testing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 Q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www.iavsc.or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6" name="iac_logo" descr=""/>
          <p:cNvPicPr/>
          <p:nvPr/>
        </p:nvPicPr>
        <p:blipFill>
          <a:blip r:embed="rId1"/>
          <a:stretch/>
        </p:blipFill>
        <p:spPr>
          <a:xfrm>
            <a:off x="6248520" y="4545000"/>
            <a:ext cx="2427120" cy="1627200"/>
          </a:xfrm>
          <a:prstGeom prst="rect">
            <a:avLst/>
          </a:prstGeom>
          <a:ln w="0">
            <a:noFill/>
          </a:ln>
        </p:spPr>
      </p:pic>
      <p:pic>
        <p:nvPicPr>
          <p:cNvPr id="227" name="iac_banner" descr=""/>
          <p:cNvPicPr/>
          <p:nvPr/>
        </p:nvPicPr>
        <p:blipFill>
          <a:blip r:embed="rId2"/>
          <a:stretch/>
        </p:blipFill>
        <p:spPr>
          <a:xfrm>
            <a:off x="1057320" y="457200"/>
            <a:ext cx="7029360" cy="4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AC2-152A-42AF-8994-8D2F5BA175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Manchester Research Centre for Computational Science (MRCCS)</a:t>
            </a: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cus for HPC activities throughout the 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utational Chemist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entre for Novel Computing (Computer Scien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Manchester Visualization Centr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CSA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chool of Engine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ordinated research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larship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minars (with live broadcast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807-12C7-40CE-84F6-393A00B268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y Mummy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1" name="mummy2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6676920"/>
          </a:xfrm>
          <a:prstGeom prst="rect">
            <a:avLst/>
          </a:prstGeom>
          <a:ln w="0">
            <a:noFill/>
          </a:ln>
        </p:spPr>
      </p:pic>
      <p:pic>
        <p:nvPicPr>
          <p:cNvPr id="232" name="jamie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29136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AC1-2F94-4811-A70B-ADABCACBC6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4" name="mask_crop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3971880"/>
          </a:xfrm>
          <a:prstGeom prst="rect">
            <a:avLst/>
          </a:prstGeom>
          <a:ln w="0">
            <a:noFill/>
          </a:ln>
        </p:spPr>
      </p:pic>
      <p:pic>
        <p:nvPicPr>
          <p:cNvPr id="235" name="head2_crop1" descr=""/>
          <p:cNvPicPr/>
          <p:nvPr/>
        </p:nvPicPr>
        <p:blipFill>
          <a:blip r:embed="rId2"/>
          <a:stretch/>
        </p:blipFill>
        <p:spPr>
          <a:xfrm>
            <a:off x="4448160" y="1981080"/>
            <a:ext cx="469584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4EF-4FA5-4264-AB8B-71129478CE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18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49B-CA06-4F44-80A5-997776CE36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eismic Tomography &amp; Convection Modelling of the Earth’s Mant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ith th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Liverpool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ir 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imulations run on 512 PEs of Cray T3E for up to 12 hour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our main problem area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odelling this thick spherical shell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isualizing it in 3D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esource restrictions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heir etho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CC9-8004-4FAB-B849-ABB3432AEB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al Autho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 Le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hn Brook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ul Lev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4" name="id_lever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105" name="JohnBrooke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24776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jo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1988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905120"/>
            <a:ext cx="3124080" cy="17524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124080"/>
            <a:ext cx="3276360" cy="17528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3581280" cy="16002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746-CDF7-49D5-ADDC-7ABDAC8C9A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odelling the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nversion of the data dates back to the 1930’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Variations dominate radi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model 1D (depth is the main factor)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Historically analyse the data by 2D projection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Academic peers now want more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6" name="old_2D_tomo2" descr=""/>
          <p:cNvPicPr/>
          <p:nvPr/>
        </p:nvPicPr>
        <p:blipFill>
          <a:blip r:embed="rId1"/>
          <a:stretch/>
        </p:blipFill>
        <p:spPr>
          <a:xfrm>
            <a:off x="1714680" y="4114800"/>
            <a:ext cx="57150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546-326F-47D7-9020-082E45EEF4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3D Visualization of a Thick Spherical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9" name="iso" descr=""/>
          <p:cNvPicPr/>
          <p:nvPr/>
        </p:nvPicPr>
        <p:blipFill>
          <a:blip r:embed="rId1"/>
          <a:stretch/>
        </p:blipFill>
        <p:spPr>
          <a:xfrm>
            <a:off x="380880" y="1847880"/>
            <a:ext cx="3962520" cy="3162240"/>
          </a:xfrm>
          <a:prstGeom prst="rect">
            <a:avLst/>
          </a:prstGeom>
          <a:ln w="0">
            <a:noFill/>
          </a:ln>
        </p:spPr>
      </p:pic>
      <p:pic>
        <p:nvPicPr>
          <p:cNvPr id="250" name="seg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646440" cy="27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E03-197B-47CF-9EDE-9BC554ECD7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pecial Challenges/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nderers only handle straight line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pherical data must be resampl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Large data sets benefit from special data reduction/handling techniqu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ference information allows surface features to be related to internal on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Shell is thick &amp; close to centre of the sphere, angular component is importan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Perceptual factors make orientation, perspective and colour difficult to interpre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Depth was not before a visual factor, originally 2D projections were used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New normalisation is need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Cut planes are also 2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Internal data may be self obscuring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028-458C-477B-8F7A-8B77EB9332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pole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other latitude ba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5" name="tomo_cells1" descr=""/>
          <p:cNvPicPr/>
          <p:nvPr/>
        </p:nvPicPr>
        <p:blipFill>
          <a:blip r:embed="rId1"/>
          <a:srcRect l="0" t="6924" r="0" b="5696"/>
          <a:stretch/>
        </p:blipFill>
        <p:spPr>
          <a:xfrm>
            <a:off x="4724280" y="4362480"/>
            <a:ext cx="441972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incidentala" descr=""/>
          <p:cNvPicPr/>
          <p:nvPr/>
        </p:nvPicPr>
        <p:blipFill>
          <a:blip r:embed="rId2"/>
          <a:stretch/>
        </p:blipFill>
        <p:spPr>
          <a:xfrm>
            <a:off x="0" y="3863880"/>
            <a:ext cx="27050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6E6-E5EE-497F-93B1-89713CA78B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Display and data reduction issu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d data set is 3 to 4 x size of the original o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o longer interactive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ifficult to see the extents of the data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9" name="pic2.1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pic2.2" descr=""/>
          <p:cNvPicPr/>
          <p:nvPr/>
        </p:nvPicPr>
        <p:blipFill>
          <a:blip r:embed="rId2"/>
          <a:stretch/>
        </p:blipFill>
        <p:spPr>
          <a:xfrm>
            <a:off x="2166840" y="3429000"/>
            <a:ext cx="2405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1A6-BE57-4593-8312-9917D15A73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Reference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omography data of the Earth’s mantle is strongly related to other information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olcanic” hotspot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ectonic plate boundari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astlin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pseudo-colour is the standard one for the field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ata can be normalised to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variation in the inner most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layers as prominent as the outer most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63" name="norm_cut" descr=""/>
          <p:cNvPicPr/>
          <p:nvPr/>
        </p:nvPicPr>
        <p:blipFill>
          <a:blip r:embed="rId1"/>
          <a:stretch/>
        </p:blipFill>
        <p:spPr>
          <a:xfrm>
            <a:off x="5943600" y="4303800"/>
            <a:ext cx="3200400" cy="2554200"/>
          </a:xfrm>
          <a:prstGeom prst="rect">
            <a:avLst/>
          </a:prstGeom>
          <a:ln w="0">
            <a:noFill/>
          </a:ln>
        </p:spPr>
      </p:pic>
      <p:pic>
        <p:nvPicPr>
          <p:cNvPr id="264" name="not_norm_cut" descr=""/>
          <p:cNvPicPr/>
          <p:nvPr/>
        </p:nvPicPr>
        <p:blipFill>
          <a:blip r:embed="rId2"/>
          <a:srcRect l="4134" t="0" r="4134" b="0"/>
          <a:stretch/>
        </p:blipFill>
        <p:spPr>
          <a:xfrm>
            <a:off x="6905520" y="2209680"/>
            <a:ext cx="22384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540-CBE1-4978-99A2-0BD96ACE0C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ahoma"/>
              </a:rPr>
              <a:t>VIPAR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 Environment for Generating Parallel Modules in AVS/Expres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ar Visualization Environments (MVE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ist for building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68" name="vipar-ov-1-image-1" descr=""/>
          <p:cNvPicPr/>
          <p:nvPr/>
        </p:nvPicPr>
        <p:blipFill>
          <a:blip r:embed="rId1"/>
          <a:stretch/>
        </p:blipFill>
        <p:spPr>
          <a:xfrm>
            <a:off x="3633840" y="2387520"/>
            <a:ext cx="551016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2CD-71A8-4060-95F7-0840F13F87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uilding an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-flow/Event-flow paradigm for exec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passes through the network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es are the compute nodes which process/transform the dat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grate application code by writing new modul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7872840" y="419112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1280" y="4191120"/>
            <a:ext cx="3556440" cy="2025000"/>
            <a:chOff x="4571280" y="4191120"/>
            <a:chExt cx="3556440" cy="2025000"/>
          </a:xfrm>
        </p:grpSpPr>
        <p:sp>
          <p:nvSpPr>
            <p:cNvPr id="273" name=""/>
            <p:cNvSpPr/>
            <p:nvPr/>
          </p:nvSpPr>
          <p:spPr>
            <a:xfrm>
              <a:off x="59324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6872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1680" y="4633560"/>
              <a:ext cx="7596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1680" y="4633560"/>
              <a:ext cx="13968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5040" y="4191120"/>
              <a:ext cx="38160" cy="12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5040" y="4633560"/>
              <a:ext cx="3816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45040" y="4203360"/>
              <a:ext cx="38160" cy="429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5560" y="46083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184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4440" y="46335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54440" y="4633560"/>
              <a:ext cx="14004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8160" y="4191120"/>
              <a:ext cx="38160" cy="12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4633560"/>
              <a:ext cx="3816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8160" y="4203360"/>
              <a:ext cx="38160" cy="429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336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000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260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60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360" y="4191120"/>
              <a:ext cx="38160" cy="12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3360" y="4633560"/>
              <a:ext cx="38160" cy="12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3360" y="4203360"/>
              <a:ext cx="38160" cy="4298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02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688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948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948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40240" y="4191120"/>
              <a:ext cx="38160" cy="12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0240" y="4633560"/>
              <a:ext cx="3816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0240" y="4203360"/>
              <a:ext cx="38160" cy="4298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5880" y="59259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72160" y="595116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3"/>
                  </a:lnTo>
                  <a:lnTo>
                    <a:pt x="56" y="167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3"/>
                  </a:lnTo>
                  <a:lnTo>
                    <a:pt x="48" y="143"/>
                  </a:lnTo>
                  <a:lnTo>
                    <a:pt x="48" y="143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4760" y="59511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4760" y="5951160"/>
              <a:ext cx="139680" cy="226800"/>
            </a:xfrm>
            <a:custGeom>
              <a:avLst/>
              <a:gdLst/>
              <a:ahLst/>
              <a:rect l="l" t="t" r="r" b="b"/>
              <a:pathLst>
                <a:path w="88" h="143">
                  <a:moveTo>
                    <a:pt x="48" y="0"/>
                  </a:moveTo>
                  <a:lnTo>
                    <a:pt x="88" y="0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5506920"/>
              <a:ext cx="38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48480" y="5938560"/>
              <a:ext cx="38160" cy="122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8480" y="5519520"/>
              <a:ext cx="38160" cy="4186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280" y="422892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our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36720" y="5633640"/>
              <a:ext cx="186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metric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37800" y="5862240"/>
              <a:ext cx="142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treamlin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vipar-ov-1-image-2" descr=""/>
            <p:cNvPicPr/>
            <p:nvPr/>
          </p:nvPicPr>
          <p:blipFill>
            <a:blip r:embed="rId36"/>
            <a:srcRect l="23149" t="33820" r="30560" b="32403"/>
            <a:stretch/>
          </p:blipFill>
          <p:spPr>
            <a:xfrm>
              <a:off x="5689440" y="4889160"/>
              <a:ext cx="243828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AE8-9710-4EFE-9D8B-181501A2CC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ll modules controlled by Object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ject Manager single threaded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rial Module Exec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ewer - 3D Scene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graphics i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Multi-Pipe Editio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for Virtual Realit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14" name="PIC00007a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70F-43B0-4B0E-BA7D-B61789A5DE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stablished 1851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larg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udent numb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Incom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b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qualit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Graduates getting job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each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2" name="74" descr=""/>
          <p:cNvPicPr/>
          <p:nvPr/>
        </p:nvPicPr>
        <p:blipFill>
          <a:blip r:embed="rId1"/>
          <a:stretch/>
        </p:blipFill>
        <p:spPr>
          <a:xfrm>
            <a:off x="4267080" y="3708360"/>
            <a:ext cx="4876920" cy="3149640"/>
          </a:xfrm>
          <a:prstGeom prst="rect">
            <a:avLst/>
          </a:prstGeom>
          <a:ln w="0">
            <a:noFill/>
          </a:ln>
        </p:spPr>
      </p:pic>
      <p:pic>
        <p:nvPicPr>
          <p:cNvPr id="113" name="71" descr=""/>
          <p:cNvPicPr/>
          <p:nvPr/>
        </p:nvPicPr>
        <p:blipFill>
          <a:blip r:embed="rId2"/>
          <a:stretch/>
        </p:blipFill>
        <p:spPr>
          <a:xfrm>
            <a:off x="5740560" y="0"/>
            <a:ext cx="34034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09F-DE0C-49AD-A47E-191BA14AEA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owards parallel solu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se of the systems has led to problem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ottlenecks created by highly computational modules  (blocking all other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Large datasets cannot easily fit into the memory of a single compute no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are a number of schemes for adding module parallelis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classify them into three main group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E9A-49F6-46F6-93EA-AEA9250034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1. Functional or Task Parallelis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ach module can execute on a separate processor or machi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coars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495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ample: AVS5 Remote Paralle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6540480" cy="29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E5E-CC6C-42F4-BEF4-7C8760B5F6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2. Parallel Modul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ationally expensive modules are parallelised / vectorised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fin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9360" y="3124080"/>
            <a:ext cx="8583480" cy="35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460-C104-4873-AECB-07C4F635B4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3. Parallel Syst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modules pass data using parallel communication method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ne grain but no overheads from composition / redistrib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50920" y="3414600"/>
            <a:ext cx="7993080" cy="34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9E1-1FF8-4BF6-BA2C-BC1BFCEE29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ystem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4952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vsi - Visualization system interfac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idd/dd - Data Distrib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974960" y="1963800"/>
            <a:ext cx="519408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6C3-102D-4F3E-906D-0E3E559E1D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 Too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interactive tool to allow the user to describe the specification of a parallel modul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pecification include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 decomposition strategy for in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arget platform and system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osition of out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ighborhood information and boundary conditions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take a closer look at some of the distribution schem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FF4-B558-4242-A579-67C9F626FD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562880" cy="1904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108680" cy="2065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182088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942-CDA3-464B-8690-587E589D1CA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ducing the tagged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889280" y="1752480"/>
            <a:ext cx="53654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257-77D4-495D-BB63-B53693AC325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example application has been developed to integrate a parallel version of marching cubes (iso-surface generation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put data is distributed in blocks (BLOCK, BLOCK, BLOCK)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Workers generate a list of triangles which form part of complete iso-surface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arness combines surface portions into complete datase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ome test results have been obtained..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905-EE49-44FC-A381-066E74DD80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sosurfac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1" name="vipar-ov-1-image-18a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7D7-8A9B-4E33-984D-5F28A64547B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omputing at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ndamental Computer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xt slid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computing, e.g.,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lecular modelling, chemistry, engineering,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edicine, social anthropology, ageing proces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6" name="uom_today" descr=""/>
          <p:cNvPicPr/>
          <p:nvPr/>
        </p:nvPicPr>
        <p:blipFill>
          <a:blip r:embed="rId1"/>
          <a:stretch/>
        </p:blipFill>
        <p:spPr>
          <a:xfrm>
            <a:off x="0" y="4448160"/>
            <a:ext cx="725976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1981080"/>
            <a:ext cx="3124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0,000 computers on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5,000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rom &gt; 150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03C-A016-42BF-8989-62036A6106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s of Isosurfac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3" name="vipar-ov-1-image-19" descr=""/>
          <p:cNvPicPr/>
          <p:nvPr/>
        </p:nvPicPr>
        <p:blipFill>
          <a:blip r:embed="rId1"/>
          <a:srcRect l="0" t="0" r="11630" b="0"/>
          <a:stretch/>
        </p:blipFill>
        <p:spPr>
          <a:xfrm>
            <a:off x="0" y="1219320"/>
            <a:ext cx="8686800" cy="54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86C-312F-4926-9DF4-4BD613601FF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erformance - Hydrogen Data Se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5" name="vipar-ov-1-image-20a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A02-8750-4350-AA07-6852C635021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Rendering Framework for Visualization Applic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1371600" cy="920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057400" y="-648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752480" cy="50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Multi-Pipe Edition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ject Research Partne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dvanced Visual Systems (AV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-Visualization Software &amp; Solution Vendo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ubota Graphics Technology, Inc. Partn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raphics Technology Partner (MPU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chester Visualisation Centre, IAC: International AVS Centre (Research Partne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82880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2ED-8180-4097-B80B-2F486BB73B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pplication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eoSciences (Oil &amp; Gas)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GOCAD, GeoQues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Medical 3D Reconstruc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DICOM Image Stack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CF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ot3D, CFX, Fluen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FE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utodyn3D, Goodyea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rc/Info, Oracle Spatia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ata Mining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racle, Informix, ODBC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352680"/>
            <a:ext cx="2209680" cy="1143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/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209680"/>
            <a:ext cx="1828800" cy="3429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y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905120"/>
            <a:ext cx="685800" cy="4114800"/>
          </a:xfrm>
          <a:custGeom>
            <a:avLst/>
            <a:gdLst>
              <a:gd name="textAreaLeft" fmla="*/ 0 w 685800"/>
              <a:gd name="textAreaRight" fmla="*/ 247680 w 6858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27440" y="475776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1C3-A4BF-490E-8E6F-BC7C28441E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mmersive Environment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V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Reality Cen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owerWal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Do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.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5" name="trimension-rooms6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5181480" cy="3752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86280" y="5554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mension Systems, 3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7B9-C630-4287-9E7E-7C61E45E11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Rendering Syste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penGL 1.1 / 1.2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-performance data struc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D/3D Tex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TF Volume Rend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Quad-buffer Stereo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 portability (Windows, UNIX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limentary Software renderer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(X-server, Printing, Postscript, CGM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26692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214-C6C0-4BC2-A0A5-A80B76CDDA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PU Renderer means no changes to application laye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1474920" y="2819520"/>
            <a:ext cx="2020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0880" y="5334120"/>
            <a:ext cx="2021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3040" y="5334120"/>
            <a:ext cx="1535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FC/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4240" y="5334120"/>
            <a:ext cx="1454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/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1944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4960" y="2819520"/>
            <a:ext cx="1778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99160" y="2819520"/>
            <a:ext cx="1454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8200" y="3581280"/>
            <a:ext cx="2667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419720"/>
            <a:ext cx="5172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2400" y="3581280"/>
            <a:ext cx="2586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62240" y="2514600"/>
            <a:ext cx="6095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2240" y="5257800"/>
            <a:ext cx="6095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8680" y="33098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90160" y="53672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8800" y="4987800"/>
            <a:ext cx="2225520" cy="1870200"/>
            <a:chOff x="1828800" y="4987800"/>
            <a:chExt cx="2225520" cy="1870200"/>
          </a:xfrm>
        </p:grpSpPr>
        <p:sp>
          <p:nvSpPr>
            <p:cNvPr id="387" name=""/>
            <p:cNvSpPr/>
            <p:nvPr/>
          </p:nvSpPr>
          <p:spPr>
            <a:xfrm>
              <a:off x="2225520" y="4987800"/>
              <a:ext cx="1828800" cy="144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F9F-2D7D-4164-9399-62CDDE4949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Viewer 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58208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akes Advantage of Virtual Renderer Structu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6002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1752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81280"/>
            <a:ext cx="22860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1523880"/>
            <a:ext cx="19810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er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2209680"/>
            <a:ext cx="20574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e 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038480"/>
            <a:ext cx="2057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600200"/>
            <a:ext cx="25146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2438280"/>
            <a:ext cx="25146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i-strip, norm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581280"/>
            <a:ext cx="25146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280" y="47926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6765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04" name=""/>
          <p:cNvSpPr/>
          <p:nvPr/>
        </p:nvSpPr>
        <p:spPr>
          <a:xfrm>
            <a:off x="3505320" y="4952880"/>
            <a:ext cx="22096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71800" y="1905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3880" y="1066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790960" y="19810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198108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705720" y="5257800"/>
            <a:ext cx="1066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457200" y="1447920"/>
            <a:ext cx="8229600" cy="4944960"/>
            <a:chOff x="457200" y="1447920"/>
            <a:chExt cx="8229600" cy="4944960"/>
          </a:xfrm>
        </p:grpSpPr>
        <p:sp>
          <p:nvSpPr>
            <p:cNvPr id="414" name=""/>
            <p:cNvSpPr/>
            <p:nvPr/>
          </p:nvSpPr>
          <p:spPr>
            <a:xfrm>
              <a:off x="5791320" y="1447920"/>
              <a:ext cx="2895480" cy="42670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" y="593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D08-595F-48C8-8AAF-5C86426FB1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Utility (MPU)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GI Multi-pipe Utility (MPU) is a multi-pipe programming interface for OpenGL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ey features 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lexible pipe, window and channel configuration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Easy integration in OpenGL application frame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herent support for Stereo and Head Motion Track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ransparent parallelization of rendering process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943600" y="4578480"/>
            <a:ext cx="32004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BF2-69AF-4F4B-AF6D-9E21B7D61B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er Innov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orld first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ored program 1948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mercial compute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dex regist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Virtual Memo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flow machin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0" name="mark1" descr=""/>
          <p:cNvPicPr/>
          <p:nvPr/>
        </p:nvPicPr>
        <p:blipFill>
          <a:blip r:embed="rId1"/>
          <a:stretch/>
        </p:blipFill>
        <p:spPr>
          <a:xfrm>
            <a:off x="3200400" y="3402000"/>
            <a:ext cx="594360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117-CC2F-4A91-BCE3-461F3F8509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Key Benefit for AV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SCII configuration file format, the MPU provides run-time portability of OpenGL-based applications between single-user and large-scale environments such a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AVE Environments (4/5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alityCenter Curved Screen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owerWall, HoloDes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mmersaDes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Deploymen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1" name="mpu_fig1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272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FDB-D018-40D1-B68B-5F45288343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external camera confi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ultiple Displa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nnels for Single Scen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Applic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4" name="mpu-snapshot" descr=""/>
          <p:cNvPicPr/>
          <p:nvPr/>
        </p:nvPicPr>
        <p:blipFill>
          <a:blip r:embed="rId1"/>
          <a:stretch/>
        </p:blipFill>
        <p:spPr>
          <a:xfrm>
            <a:off x="4257720" y="2057400"/>
            <a:ext cx="4886280" cy="4062240"/>
          </a:xfrm>
          <a:prstGeom prst="rect">
            <a:avLst/>
          </a:prstGeom>
          <a:ln w="0">
            <a:noFill/>
          </a:ln>
        </p:spPr>
      </p:pic>
      <p:pic>
        <p:nvPicPr>
          <p:cNvPr id="425" name="mpu_fig2" descr=""/>
          <p:cNvPicPr/>
          <p:nvPr/>
        </p:nvPicPr>
        <p:blipFill>
          <a:blip r:embed="rId2"/>
          <a:stretch/>
        </p:blipFill>
        <p:spPr>
          <a:xfrm>
            <a:off x="0" y="4589640"/>
            <a:ext cx="2590920" cy="22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A34-28D0-4457-84A1-7A6CDE4C3B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View-Renderer Menu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 of View attribut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inimal UI chang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ynamic switching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/out of MPU mod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mple Menu contr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8" name="mpu-view-menu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724640" cy="2498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05120" y="3809880"/>
            <a:ext cx="23619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991-01E7-4E83-9B24-CC10614457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XP/MPU in 4-wall CAV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 Multi-Pipe Edition Tria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4-Wall CAVE configur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tereo Displa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ikkawa-san &amp; Miyachi-san of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GT Inc., pictured in CAVE a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ISSHO Electronics, Tokyo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2" name="jpcave-small" descr=""/>
          <p:cNvPicPr/>
          <p:nvPr/>
        </p:nvPicPr>
        <p:blipFill>
          <a:blip r:embed="rId1"/>
          <a:stretch/>
        </p:blipFill>
        <p:spPr>
          <a:xfrm>
            <a:off x="5549760" y="1004760"/>
            <a:ext cx="3594240" cy="58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9B8-0899-4433-A77E-8F42617440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Probing the universe via an intercontinental cluster of T3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earching for Pulsa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5" name="meta_sc99%20copy" descr=""/>
          <p:cNvPicPr/>
          <p:nvPr/>
        </p:nvPicPr>
        <p:blipFill>
          <a:blip r:embed="rId1"/>
          <a:srcRect l="3594" t="22413" r="5610" b="47646"/>
          <a:stretch/>
        </p:blipFill>
        <p:spPr>
          <a:xfrm>
            <a:off x="1143000" y="327672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etacomputin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437" name="sc99topology" descr=""/>
          <p:cNvPicPr/>
          <p:nvPr/>
        </p:nvPicPr>
        <p:blipFill>
          <a:blip r:embed="rId1"/>
          <a:stretch/>
        </p:blipFill>
        <p:spPr>
          <a:xfrm>
            <a:off x="0" y="266760"/>
            <a:ext cx="9120240" cy="65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3EC-C037-41BF-A107-A9A510EA94E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 logistics are formidabl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chines are busy production machin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ystem administrators make the machines available manu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experiments were run at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4:00 in Portland Oregon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16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Pittsburgh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07:00 in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sukuba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23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Manchester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idnight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Stuttgart it is midnight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rm and tact were required!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72A-8256-4BEF-8CBD-D5E68EB9439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d there’s the networking!!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t took two weeks and over a  hundred emails to set up the Manchester-Stuttgart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LR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Pittsburgh staff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t up the transatlantic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ERNA tried to get a PVC from Manchester to Pittsburgh but it was held up by problems in the US. It finally became available the day after the final experiment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3DE-D9C8-48AA-9228-81E39A74D5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handling and transmiss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ll 10 Gigabytes of input data initially reside on the Manchester T3E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R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presents 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pproximately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one hour of observations of the globular cluster M80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rocessors on all hosts, both local and remote, are enlisted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uring the run, huge volumes of data are transferred across the network to remote processors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e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just enough remote processors to saturate the available bandwidth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t the end of the run, multiple transformed time series are sent back by FTP for post-processing in Manchester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C5C-B823-4C56-82BA-3503637281F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advantages would this bring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serving time may be limited, real-time processing allows it to be used more effectively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may be a race to identify something new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arching algorithms can be dynamically updated in the light of post-processing result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liminating tapes is more elegant and saves staff time at both e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F07-747D-4B7F-A90C-C5CCC601F3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vides services to: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 Academi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upercomputing (CSAR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formation &amp; data services (MIMA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jor node in UK Academic Net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rnational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ternational AVS Centre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IMA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overnment, Commerce &amp; Industr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upercomputing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ternet exchange poin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etworks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ultimedia (Advanced Telematics Centr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nsultancy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&amp;D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3" name="Ag00023_" descr=""/>
          <p:cNvPicPr/>
          <p:nvPr/>
        </p:nvPicPr>
        <p:blipFill>
          <a:blip r:embed="rId1"/>
          <a:stretch/>
        </p:blipFill>
        <p:spPr>
          <a:xfrm>
            <a:off x="6681960" y="1523880"/>
            <a:ext cx="24620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00B-E079-4D23-9A6F-E298D54C0A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o what are we trying to do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1981080" cy="259092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Use it all in Real-Ti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reater throughput of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48" name="09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46320"/>
          </a:xfrm>
          <a:prstGeom prst="rect">
            <a:avLst/>
          </a:prstGeom>
          <a:ln w="0">
            <a:noFill/>
          </a:ln>
        </p:spPr>
      </p:pic>
      <p:pic>
        <p:nvPicPr>
          <p:cNvPr id="449" name="DCP_161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276360" cy="2174760"/>
          </a:xfrm>
          <a:prstGeom prst="rect">
            <a:avLst/>
          </a:prstGeom>
          <a:ln w="0">
            <a:noFill/>
          </a:ln>
        </p:spPr>
      </p:pic>
      <p:pic>
        <p:nvPicPr>
          <p:cNvPr id="450" name="CrayT3E-Nicola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266920" cy="2279520"/>
          </a:xfrm>
          <a:prstGeom prst="rect">
            <a:avLst/>
          </a:prstGeom>
          <a:ln w="0">
            <a:noFill/>
          </a:ln>
        </p:spPr>
      </p:pic>
      <p:pic>
        <p:nvPicPr>
          <p:cNvPr id="451" name="BOSSES" descr=""/>
          <p:cNvPicPr/>
          <p:nvPr/>
        </p:nvPicPr>
        <p:blipFill>
          <a:blip r:embed="rId4"/>
          <a:stretch/>
        </p:blipFill>
        <p:spPr>
          <a:xfrm>
            <a:off x="2438280" y="4433760"/>
            <a:ext cx="3233880" cy="24242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895480" y="4419720"/>
            <a:ext cx="2210040" cy="53316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3200400"/>
            <a:ext cx="2133720" cy="13716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9E4-CC5D-4865-8EA8-C8D0D347C5D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Finally thank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all those at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Computing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chester Visualizatipn Centre, CSAR, Manchester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SC Farnborough, HLRS,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Pittsburgh Supercomputing Center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TL at Tsukuba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Liverpool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EPSRC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KGT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VS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the telecommunications providers on three continent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0BB-835D-4C1F-8596-E1A66239DB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How to contact m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Visualization Centre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M13 9P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ted Kingdom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095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800 (fax)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.t.hewitt@man.ac.uk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man.ac.uk/MVC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csar.cfs.ac.uk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iavsc.org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1C2-8029-4CDF-9296-4669E07143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Building a City Info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19720"/>
            <a:ext cx="5715000" cy="1523880"/>
          </a:xfrm>
          <a:prstGeom prst="ellipse">
            <a:avLst/>
          </a:prstGeom>
          <a:solidFill>
            <a:srgbClr val="b3b9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182600"/>
            <a:ext cx="5079960" cy="2297160"/>
          </a:xfrm>
          <a:prstGeom prst="ellipse">
            <a:avLst/>
          </a:prstGeom>
          <a:solidFill>
            <a:srgbClr val="fe9b03"/>
          </a:solidFill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066680"/>
            <a:ext cx="1905120" cy="472464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838080"/>
            <a:ext cx="2057400" cy="4724640"/>
          </a:xfrm>
          <a:prstGeom prst="ellipse">
            <a:avLst/>
          </a:prstGeom>
          <a:solidFill>
            <a:srgbClr val="b3b9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0000" y="57168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556080"/>
            <a:ext cx="736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M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3562200"/>
            <a:ext cx="1420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yal Northe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lege of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2895480"/>
            <a:ext cx="117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2440" y="507960"/>
            <a:ext cx="231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etropoli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8320" y="2133720"/>
            <a:ext cx="236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Edu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 (G-M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480" y="1390680"/>
            <a:ext cx="1628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320" y="990720"/>
            <a:ext cx="204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Tow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914400"/>
            <a:ext cx="489240" cy="35388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2193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1352520"/>
            <a:ext cx="1047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ll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14300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066680"/>
            <a:ext cx="404640" cy="3654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20040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76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27672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06560" y="148608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400800"/>
            <a:ext cx="396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Community Information 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411480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Pop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2960" y="5562720"/>
            <a:ext cx="1195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llage H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2920" y="4162320"/>
            <a:ext cx="533520" cy="6098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334120"/>
            <a:ext cx="304920" cy="30456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50292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54864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04920" y="4114800"/>
            <a:ext cx="1447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505320"/>
            <a:ext cx="533160" cy="76176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8480" y="4057560"/>
            <a:ext cx="174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ltimedia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28800" y="3962520"/>
            <a:ext cx="317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914640"/>
            <a:ext cx="7524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81400" y="3295800"/>
            <a:ext cx="93348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752480"/>
            <a:ext cx="1713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9800" y="1333440"/>
            <a:ext cx="10476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10120" y="1266840"/>
            <a:ext cx="190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95880" y="3286080"/>
            <a:ext cx="2095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1920" y="355284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3581280"/>
            <a:ext cx="1082880" cy="5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200" y="3429000"/>
            <a:ext cx="55404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4876920"/>
            <a:ext cx="890640" cy="849240"/>
            <a:chOff x="1143000" y="4876920"/>
            <a:chExt cx="890640" cy="849240"/>
          </a:xfrm>
        </p:grpSpPr>
        <p:sp>
          <p:nvSpPr>
            <p:cNvPr id="170" name=""/>
            <p:cNvSpPr/>
            <p:nvPr/>
          </p:nvSpPr>
          <p:spPr>
            <a:xfrm>
              <a:off x="1200240" y="4876920"/>
              <a:ext cx="777960" cy="777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6320" y="52308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200" y="55134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2760" y="556920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534384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7400" y="4977000"/>
              <a:ext cx="15696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419720"/>
            <a:ext cx="533520" cy="5331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7000" y="3987720"/>
            <a:ext cx="258480" cy="2192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3728880"/>
            <a:ext cx="40968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447920"/>
            <a:ext cx="488880" cy="35388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838080"/>
            <a:ext cx="212760" cy="581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009800"/>
            <a:ext cx="488880" cy="3729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154944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aching 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64280" y="888840"/>
            <a:ext cx="2140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use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f Science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6160" y="5505480"/>
            <a:ext cx="890640" cy="933480"/>
            <a:chOff x="4286160" y="5505480"/>
            <a:chExt cx="890640" cy="933480"/>
          </a:xfrm>
        </p:grpSpPr>
        <p:sp>
          <p:nvSpPr>
            <p:cNvPr id="185" name=""/>
            <p:cNvSpPr/>
            <p:nvPr/>
          </p:nvSpPr>
          <p:spPr>
            <a:xfrm>
              <a:off x="4343400" y="5589720"/>
              <a:ext cx="777960" cy="77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8600" y="55054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0000" y="5632560"/>
              <a:ext cx="15696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9840" y="5943600"/>
              <a:ext cx="156960" cy="157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360" y="622620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25920" y="628164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6160" y="60562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0560" y="5689800"/>
              <a:ext cx="15732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945480" y="2743200"/>
            <a:ext cx="1319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ulti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603520"/>
            <a:ext cx="228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76400" y="3689280"/>
            <a:ext cx="409680" cy="2682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1000" y="4276800"/>
            <a:ext cx="405000" cy="3650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2120" y="3492360"/>
            <a:ext cx="5079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17524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22096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45000" y="1936800"/>
            <a:ext cx="901800" cy="20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182000" y="2400480"/>
            <a:ext cx="1047600" cy="247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400" y="1523880"/>
            <a:ext cx="14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ston Brook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2514600"/>
            <a:ext cx="14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akwood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4600" y="4610160"/>
            <a:ext cx="250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kers Education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61520" y="5105520"/>
            <a:ext cx="339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Community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FB9-3C9A-44F2-842E-835142CE19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-line access to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analysis/manipulation servi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pecialist support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ocumentation, training &amp; user suppor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08" name="MIMASDIG" descr=""/>
          <p:cNvPicPr/>
          <p:nvPr/>
        </p:nvPicPr>
        <p:blipFill>
          <a:blip r:embed="rId1"/>
          <a:stretch/>
        </p:blipFill>
        <p:spPr>
          <a:xfrm>
            <a:off x="371520" y="228600"/>
            <a:ext cx="877248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D14-13CE-458A-A718-5F52B4C9BB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ational HPC services continuously since 1972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lagship supercomputer service for UK Academia &amp; Commer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10" name="xx012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280368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19720" y="1522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mputer Science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Sep06%5E28" descr=""/>
          <p:cNvPicPr/>
          <p:nvPr/>
        </p:nvPicPr>
        <p:blipFill>
          <a:blip r:embed="rId3"/>
          <a:stretch/>
        </p:blipFill>
        <p:spPr>
          <a:xfrm>
            <a:off x="0" y="382428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F97-BBFF-4EB2-B9EB-A4E26C9B5D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3:57:04Z</dcterms:created>
  <dc:creator>W T Hewitt</dc:creator>
  <dc:description/>
  <dc:language>en-US</dc:language>
  <cp:lastModifiedBy>W T Hewitt</cp:lastModifiedBy>
  <cp:lastPrinted>2000-10-04T11:07:16Z</cp:lastPrinted>
  <dcterms:modified xsi:type="dcterms:W3CDTF">2000-10-06T12:20:20Z</dcterms:modified>
  <cp:revision>32</cp:revision>
  <dc:subject/>
  <dc:title>Proposal to host Euro-Par 2001 in Manchester UK </dc:title>
</cp:coreProperties>
</file>