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13.jpeg" ContentType="image/jpeg"/>
  <Override PartName="/ppt/media/image20.png" ContentType="image/png"/>
  <Override PartName="/ppt/media/image10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7.jpeg" ContentType="image/jpeg"/>
  <Override PartName="/ppt/media/image45.wmf" ContentType="image/x-wmf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34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53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4.png" ContentType="image/png"/>
  <Override PartName="/ppt/media/image11.gif" ContentType="image/gif"/>
  <Override PartName="/ppt/media/image44.wmf" ContentType="image/x-wmf"/>
  <Override PartName="/ppt/media/image12.png" ContentType="image/png"/>
  <Override PartName="/ppt/media/image32.png" ContentType="image/png"/>
  <Override PartName="/ppt/media/image33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6.wmf" ContentType="image/x-wmf"/>
  <Override PartName="/ppt/media/image69.jpeg" ContentType="image/jpeg"/>
  <Override PartName="/ppt/media/image18.gif" ContentType="image/gif"/>
  <Override PartName="/ppt/media/image4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91160"/>
            <a:ext cx="494676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C4BE-6D8F-4791-BA74-A56CE6FDA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ing a bad job often gives better scal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thing happens if a slower CPU is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is little number juggle we not only learn that bad programs scale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ing that processing data in big chunks gives better speedup we conclude that the more coarse grained our parallelization is, the better performance we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rst point is true also for shared memory approaches but the second and the third are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hardware vendors, software vendors, academic and industrial researchers took part in developing M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de facto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is continu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mpilers allow you to specify a default number of pro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important to notice that mpprun does not always pick up path variables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 forget to have a slide or two explaining how to run a mpi program in the environment used for the workshop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also use mpirun on the Cray-t3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I does not specify mpirun. But does specify an optional mpiexec (check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your measure of success we are one of the best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tables we appear around 5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1E6-431A-4BA0-ABB9-9A62A2FB89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9AD6-6AE4-4944-81E2-6498B1CB3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433F-4D0F-49F1-AE9D-EF3941C237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chester Computing - was MCC - was UMR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cademic servic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vier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Academia on the National Serv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Distribution and 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01800" y="743040"/>
            <a:ext cx="4938480" cy="3703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21F-E6C3-42A1-84E0-A0AE8EE1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00C-FC3C-4004-A28C-66D2907E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780-57D0-463F-8040-76089F5A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E02-8380-46E8-9A99-4C2B1211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631F-EB7F-4488-A501-A3E36BC7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B41-D49E-4E78-AD56-6B7221C6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C0BD-C01C-4E1C-87DF-7674985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7AEA-E17A-4C6F-AEB4-720C8A8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A6D4-C618-4564-986B-4D88B02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5E5C-68A8-4319-938E-14160EE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0D1D-6F4A-406C-8E21-AEB36A9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AD1-BD9C-4756-B36C-C0A095B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87D1-B912-486F-A550-E5AB4EF9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D3BE-67C1-4B5F-B7D4-CF08258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8DC3-DB6D-419F-958B-1FD5251D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BA76-3F39-4785-AA56-8EB24E22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856-835D-493C-B028-924D3633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3FD-F090-4A88-B6A1-47C3659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DE8-5ED7-499A-BB25-004D5894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AC0-B05D-4D47-A237-33DC0E70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1E4-EB66-4A3D-B866-22A480FB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A70-299B-4DEF-8261-9FAAB73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2C7-B3FD-4FA7-B5B8-2B5E663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66B-95A5-438F-B543-DA96727A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2B0C-7420-4BBA-BF65-9096943082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52480" y="1523880"/>
            <a:ext cx="69343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3880"/>
            <a:ext cx="15264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248520"/>
            <a:ext cx="85345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mvclogo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9" name="mrccs" descr=""/>
          <p:cNvPicPr/>
          <p:nvPr/>
        </p:nvPicPr>
        <p:blipFill>
          <a:blip r:embed="rId3"/>
          <a:stretch/>
        </p:blipFill>
        <p:spPr>
          <a:xfrm>
            <a:off x="6629400" y="1295280"/>
            <a:ext cx="174780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5696-B3B7-44A4-9E8E-48325576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14400"/>
            <a:ext cx="67057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914400"/>
            <a:ext cx="15228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867280"/>
            <a:ext cx="83059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vclogo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mrccs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747800" cy="446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image" Target="../media/image39.png"/><Relationship Id="rId19" Type="http://schemas.openxmlformats.org/officeDocument/2006/relationships/image" Target="../media/image39.png"/><Relationship Id="rId20" Type="http://schemas.openxmlformats.org/officeDocument/2006/relationships/image" Target="../media/image39.png"/><Relationship Id="rId21" Type="http://schemas.openxmlformats.org/officeDocument/2006/relationships/image" Target="../media/image39.png"/><Relationship Id="rId22" Type="http://schemas.openxmlformats.org/officeDocument/2006/relationships/image" Target="../media/image39.png"/><Relationship Id="rId23" Type="http://schemas.openxmlformats.org/officeDocument/2006/relationships/image" Target="../media/image39.png"/><Relationship Id="rId24" Type="http://schemas.openxmlformats.org/officeDocument/2006/relationships/image" Target="../media/image39.png"/><Relationship Id="rId25" Type="http://schemas.openxmlformats.org/officeDocument/2006/relationships/image" Target="../media/image39.png"/><Relationship Id="rId26" Type="http://schemas.openxmlformats.org/officeDocument/2006/relationships/image" Target="../media/image39.png"/><Relationship Id="rId27" Type="http://schemas.openxmlformats.org/officeDocument/2006/relationships/image" Target="../media/image39.png"/><Relationship Id="rId28" Type="http://schemas.openxmlformats.org/officeDocument/2006/relationships/image" Target="../media/image39.png"/><Relationship Id="rId29" Type="http://schemas.openxmlformats.org/officeDocument/2006/relationships/image" Target="../media/image39.png"/><Relationship Id="rId30" Type="http://schemas.openxmlformats.org/officeDocument/2006/relationships/image" Target="../media/image39.png"/><Relationship Id="rId31" Type="http://schemas.openxmlformats.org/officeDocument/2006/relationships/image" Target="../media/image39.png"/><Relationship Id="rId32" Type="http://schemas.openxmlformats.org/officeDocument/2006/relationships/image" Target="../media/image39.png"/><Relationship Id="rId33" Type="http://schemas.openxmlformats.org/officeDocument/2006/relationships/image" Target="../media/image39.png"/><Relationship Id="rId34" Type="http://schemas.openxmlformats.org/officeDocument/2006/relationships/image" Target="../media/image39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6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have the Earths' Mantle &amp; an Egyptian Mummy in Common? 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rector Manchester Visualization Cent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SAR User Services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1" name="uom" descr=""/>
          <p:cNvPicPr/>
          <p:nvPr/>
        </p:nvPicPr>
        <p:blipFill>
          <a:blip r:embed="rId1"/>
          <a:stretch/>
        </p:blipFill>
        <p:spPr>
          <a:xfrm>
            <a:off x="1219320" y="5067360"/>
            <a:ext cx="7327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chine Room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ray T3E-1200E, 816 PE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jitsu VPP300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,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BM SP2 90 P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GI Intel IA-64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rigin2000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CSAR),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4 PE (Hillier/Hewitt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Brass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0 PE (Local HPC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8 PE (NOVI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n E6500 24 PE (MIMAS),  E4500, E4000 (JSTO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100 PCs for service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wo tape Silos (150 TB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7A5-43DE-40ED-82C6-F49FB05922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anchester Visualization Cent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raphics,  visualization, multimedia,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image processing &amp; 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ince 19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VIP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40 CPU Origin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6 x InfiniteReality 3 Graphics Pip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Panoram GVR 120 ( Cylindrical Screen,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Three Electrahome Projectors, Active Ster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he International AVS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eaching &amp; Supervising MSc &amp; Ph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DCP_1614" descr=""/>
          <p:cNvPicPr/>
          <p:nvPr/>
        </p:nvPicPr>
        <p:blipFill>
          <a:blip r:embed="rId1"/>
          <a:stretch/>
        </p:blipFill>
        <p:spPr>
          <a:xfrm>
            <a:off x="5410080" y="4379760"/>
            <a:ext cx="3733920" cy="2478240"/>
          </a:xfrm>
          <a:prstGeom prst="rect">
            <a:avLst/>
          </a:prstGeom>
          <a:ln w="0">
            <a:noFill/>
          </a:ln>
        </p:spPr>
      </p:pic>
      <p:pic>
        <p:nvPicPr>
          <p:cNvPr id="219" name="DCP_1615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22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5CB-0190-4004-8E08-3CA4A47A0EE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324480" y="990720"/>
            <a:ext cx="25909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search &amp; Development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cientific visualiz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PC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stributed &amp; Meta Comput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sets &amp; data min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igh Performance Computing Technolog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igh speed Wide Area Network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URBS, Anim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3D Graphics, Radiosity, &amp; Ray-trac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WW &amp; Collaborative work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3" name="Ag00011_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4940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792-E6F2-4DBC-BF4E-5B477D611B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evelop the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/Expres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5 Module Repositori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age the IAC Web Sit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lected Research Projects on behalf of AVS Inc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pport User Group Activit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icipate in AVS Product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Solution Testing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 Q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www.iavsc.or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6" name="iac_logo" descr=""/>
          <p:cNvPicPr/>
          <p:nvPr/>
        </p:nvPicPr>
        <p:blipFill>
          <a:blip r:embed="rId1"/>
          <a:stretch/>
        </p:blipFill>
        <p:spPr>
          <a:xfrm>
            <a:off x="6248520" y="4545000"/>
            <a:ext cx="2427120" cy="1627200"/>
          </a:xfrm>
          <a:prstGeom prst="rect">
            <a:avLst/>
          </a:prstGeom>
          <a:ln w="0">
            <a:noFill/>
          </a:ln>
        </p:spPr>
      </p:pic>
      <p:pic>
        <p:nvPicPr>
          <p:cNvPr id="227" name="iac_banner" descr=""/>
          <p:cNvPicPr/>
          <p:nvPr/>
        </p:nvPicPr>
        <p:blipFill>
          <a:blip r:embed="rId2"/>
          <a:stretch/>
        </p:blipFill>
        <p:spPr>
          <a:xfrm>
            <a:off x="1057320" y="457200"/>
            <a:ext cx="7029360" cy="4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8F7-206B-4D25-A579-BAD66BC829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Manchester Research Centre for Computational Science (MRCCS)</a:t>
            </a: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cus for HPC activities throughout the 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utational Chemist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entre for Novel Computing (Computer Scien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Manchester Visualization Centr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CSA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chool of Engine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ordinated research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larship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minars (with live broadcast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42E-D1AD-4896-807C-8325AE3E8A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y Mummy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1" name="mummy2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6676920"/>
          </a:xfrm>
          <a:prstGeom prst="rect">
            <a:avLst/>
          </a:prstGeom>
          <a:ln w="0">
            <a:noFill/>
          </a:ln>
        </p:spPr>
      </p:pic>
      <p:pic>
        <p:nvPicPr>
          <p:cNvPr id="232" name="jamie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29136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602-863E-4EE9-BCC4-463499BF44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4" name="mask_crop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3971880"/>
          </a:xfrm>
          <a:prstGeom prst="rect">
            <a:avLst/>
          </a:prstGeom>
          <a:ln w="0">
            <a:noFill/>
          </a:ln>
        </p:spPr>
      </p:pic>
      <p:pic>
        <p:nvPicPr>
          <p:cNvPr id="235" name="head2_crop1" descr=""/>
          <p:cNvPicPr/>
          <p:nvPr/>
        </p:nvPicPr>
        <p:blipFill>
          <a:blip r:embed="rId2"/>
          <a:stretch/>
        </p:blipFill>
        <p:spPr>
          <a:xfrm>
            <a:off x="4448160" y="1981080"/>
            <a:ext cx="469584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6E2-6448-4A1D-8758-B85ABE8328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18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07D-F880-47CD-9F1B-816A115EF2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eismic Tomography &amp; Convection Modelling of the Earth’s Mant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ith th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Liverpool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ir 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imulations run on 512 PEs of Cray T3E for up to 12 hour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our main problem area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odelling this thick spherical shell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isualizing it in 3D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esource restrictions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heir etho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CD2-652F-4AD3-8D23-9147BC29A3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al Autho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 Le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hn Brook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ul Lev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4" name="id_lever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428840" cy="1279440"/>
          </a:xfrm>
          <a:prstGeom prst="rect">
            <a:avLst/>
          </a:prstGeom>
          <a:ln w="0">
            <a:noFill/>
          </a:ln>
        </p:spPr>
      </p:pic>
      <p:pic>
        <p:nvPicPr>
          <p:cNvPr id="105" name="JohnBrooke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124776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jo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19880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905120"/>
            <a:ext cx="3124080" cy="17524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124080"/>
            <a:ext cx="3276360" cy="17528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3581280" cy="16002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15D-050A-431D-95BA-51ACD2AE8E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odelling the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inversion of the data dates back to the 1930’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Variations dominate radi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model 1D (depth is the main factor)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Historically analyse the data by 2D projection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Academic peers now want more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6" name="old_2D_tomo2" descr=""/>
          <p:cNvPicPr/>
          <p:nvPr/>
        </p:nvPicPr>
        <p:blipFill>
          <a:blip r:embed="rId1"/>
          <a:stretch/>
        </p:blipFill>
        <p:spPr>
          <a:xfrm>
            <a:off x="1714680" y="4114800"/>
            <a:ext cx="571500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F31-5B65-43D8-9C4D-20B76B573A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3D Visualization of a Thick Spherical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9" name="iso" descr=""/>
          <p:cNvPicPr/>
          <p:nvPr/>
        </p:nvPicPr>
        <p:blipFill>
          <a:blip r:embed="rId1"/>
          <a:stretch/>
        </p:blipFill>
        <p:spPr>
          <a:xfrm>
            <a:off x="380880" y="1847880"/>
            <a:ext cx="3962520" cy="3162240"/>
          </a:xfrm>
          <a:prstGeom prst="rect">
            <a:avLst/>
          </a:prstGeom>
          <a:ln w="0">
            <a:noFill/>
          </a:ln>
        </p:spPr>
      </p:pic>
      <p:pic>
        <p:nvPicPr>
          <p:cNvPr id="250" name="seg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646440" cy="27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614-ED71-4564-BE84-0146EE08B6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pecial Challenges/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nderers only handle straight line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pherical data must be resampl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Large data sets benefit from special data reduction/handling techniqu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ference information allows surface features to be related to internal on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Shell is thick &amp; close to centre of the sphere, angular component is importan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Perceptual factors make orientation, perspective and colour difficult to interpre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Depth was not before a visual factor, originally 2D projections were used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New normalisation is need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Cut planes are also 2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Internal data may be self obscuring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E51-876D-4FA5-A927-3A15698713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pole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other latitude ba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5" name="tomo_cells1" descr=""/>
          <p:cNvPicPr/>
          <p:nvPr/>
        </p:nvPicPr>
        <p:blipFill>
          <a:blip r:embed="rId1"/>
          <a:srcRect l="0" t="6924" r="0" b="5696"/>
          <a:stretch/>
        </p:blipFill>
        <p:spPr>
          <a:xfrm>
            <a:off x="4724280" y="4362480"/>
            <a:ext cx="441972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incidentala" descr=""/>
          <p:cNvPicPr/>
          <p:nvPr/>
        </p:nvPicPr>
        <p:blipFill>
          <a:blip r:embed="rId2"/>
          <a:stretch/>
        </p:blipFill>
        <p:spPr>
          <a:xfrm>
            <a:off x="0" y="3863880"/>
            <a:ext cx="27050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ACA-ECEF-47FE-812D-08F1546126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Display and data reduction issu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d data set is 3 to 4 x size of the original o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o longer interactive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ifficult to see the extents of the data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9" name="pic2.1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pic2.2" descr=""/>
          <p:cNvPicPr/>
          <p:nvPr/>
        </p:nvPicPr>
        <p:blipFill>
          <a:blip r:embed="rId2"/>
          <a:stretch/>
        </p:blipFill>
        <p:spPr>
          <a:xfrm>
            <a:off x="2166840" y="3429000"/>
            <a:ext cx="240516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47B-7990-4DBB-9954-1C51053CC1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Reference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omography data of the Earth’s mantle is strongly related to other information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olcanic” hotspot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ectonic plate boundari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astlin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pseudo-colour is the standard one for the field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ata can be normalised to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variation in the inner most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layers as prominent as the outer most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63" name="norm_cut" descr=""/>
          <p:cNvPicPr/>
          <p:nvPr/>
        </p:nvPicPr>
        <p:blipFill>
          <a:blip r:embed="rId1"/>
          <a:stretch/>
        </p:blipFill>
        <p:spPr>
          <a:xfrm>
            <a:off x="5943600" y="4303800"/>
            <a:ext cx="3200400" cy="2554200"/>
          </a:xfrm>
          <a:prstGeom prst="rect">
            <a:avLst/>
          </a:prstGeom>
          <a:ln w="0">
            <a:noFill/>
          </a:ln>
        </p:spPr>
      </p:pic>
      <p:pic>
        <p:nvPicPr>
          <p:cNvPr id="264" name="not_norm_cut" descr=""/>
          <p:cNvPicPr/>
          <p:nvPr/>
        </p:nvPicPr>
        <p:blipFill>
          <a:blip r:embed="rId2"/>
          <a:srcRect l="4134" t="0" r="4134" b="0"/>
          <a:stretch/>
        </p:blipFill>
        <p:spPr>
          <a:xfrm>
            <a:off x="6905520" y="2209680"/>
            <a:ext cx="223848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F85-6DAB-4B4D-A455-2E3FF74260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ahoma"/>
              </a:rPr>
              <a:t>VIPAR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 Environment for Generating Parallel Modules in AVS/Expres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ar Visualization Environments (MVE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ist for building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ualiz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68" name="vipar-ov-1-image-1" descr=""/>
          <p:cNvPicPr/>
          <p:nvPr/>
        </p:nvPicPr>
        <p:blipFill>
          <a:blip r:embed="rId1"/>
          <a:stretch/>
        </p:blipFill>
        <p:spPr>
          <a:xfrm>
            <a:off x="3633840" y="2387520"/>
            <a:ext cx="551016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57B-4CCF-4781-84C9-C2F7D65AE3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uilding an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-flow/Event-flow paradigm for exec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passes through the network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es are the compute nodes which process/transform the dat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grate application code by writing new modul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7872840" y="419112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dat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1280" y="4191120"/>
            <a:ext cx="3556440" cy="2025000"/>
            <a:chOff x="4571280" y="4191120"/>
            <a:chExt cx="3556440" cy="2025000"/>
          </a:xfrm>
        </p:grpSpPr>
        <p:sp>
          <p:nvSpPr>
            <p:cNvPr id="273" name=""/>
            <p:cNvSpPr/>
            <p:nvPr/>
          </p:nvSpPr>
          <p:spPr>
            <a:xfrm>
              <a:off x="59324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6872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1680" y="4633560"/>
              <a:ext cx="7596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1680" y="4633560"/>
              <a:ext cx="13968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5040" y="4191120"/>
              <a:ext cx="38160" cy="12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5040" y="4633560"/>
              <a:ext cx="38160" cy="12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45040" y="4203360"/>
              <a:ext cx="38160" cy="429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5560" y="46083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184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4440" y="46335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54440" y="4633560"/>
              <a:ext cx="14004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8160" y="4191120"/>
              <a:ext cx="38160" cy="12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4633560"/>
              <a:ext cx="3816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8160" y="4203360"/>
              <a:ext cx="38160" cy="429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336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5000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260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60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360" y="4191120"/>
              <a:ext cx="38160" cy="12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3360" y="4633560"/>
              <a:ext cx="38160" cy="12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3360" y="4203360"/>
              <a:ext cx="38160" cy="4298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02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7688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948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948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40240" y="4191120"/>
              <a:ext cx="38160" cy="12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0240" y="4633560"/>
              <a:ext cx="3816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0240" y="4203360"/>
              <a:ext cx="38160" cy="4298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5880" y="59259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72160" y="5951160"/>
              <a:ext cx="152280" cy="264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3"/>
                  </a:lnTo>
                  <a:lnTo>
                    <a:pt x="56" y="167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3"/>
                  </a:lnTo>
                  <a:lnTo>
                    <a:pt x="48" y="143"/>
                  </a:lnTo>
                  <a:lnTo>
                    <a:pt x="48" y="143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4760" y="59511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4760" y="5951160"/>
              <a:ext cx="139680" cy="226800"/>
            </a:xfrm>
            <a:custGeom>
              <a:avLst/>
              <a:gdLst/>
              <a:ahLst/>
              <a:rect l="l" t="t" r="r" b="b"/>
              <a:pathLst>
                <a:path w="88" h="143">
                  <a:moveTo>
                    <a:pt x="48" y="0"/>
                  </a:moveTo>
                  <a:lnTo>
                    <a:pt x="88" y="0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5506920"/>
              <a:ext cx="38160" cy="12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48480" y="5938560"/>
              <a:ext cx="38160" cy="122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8480" y="5519520"/>
              <a:ext cx="38160" cy="4186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280" y="4228920"/>
              <a:ext cx="120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our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36720" y="5633640"/>
              <a:ext cx="186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ometric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37800" y="5862240"/>
              <a:ext cx="142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treamlin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vipar-ov-1-image-2" descr=""/>
            <p:cNvPicPr/>
            <p:nvPr/>
          </p:nvPicPr>
          <p:blipFill>
            <a:blip r:embed="rId36"/>
            <a:srcRect l="23149" t="33820" r="30560" b="32403"/>
            <a:stretch/>
          </p:blipFill>
          <p:spPr>
            <a:xfrm>
              <a:off x="5689440" y="4889160"/>
              <a:ext cx="243828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CEF-B68C-4E93-8CAE-EC7CC44B94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ll modules controlled by Object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ject Manager single threaded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rial Module Exec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ewer - 3D Scene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graphics i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Multi-Pipe Editio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for Virtual Realit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14" name="PIC00007a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DDC-82D8-4320-8B21-752ECED37D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stablished 1851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larg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udent numb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Incom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b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qualit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Graduates getting job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each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2" name="74" descr=""/>
          <p:cNvPicPr/>
          <p:nvPr/>
        </p:nvPicPr>
        <p:blipFill>
          <a:blip r:embed="rId1"/>
          <a:stretch/>
        </p:blipFill>
        <p:spPr>
          <a:xfrm>
            <a:off x="4267080" y="3708360"/>
            <a:ext cx="4876920" cy="3149640"/>
          </a:xfrm>
          <a:prstGeom prst="rect">
            <a:avLst/>
          </a:prstGeom>
          <a:ln w="0">
            <a:noFill/>
          </a:ln>
        </p:spPr>
      </p:pic>
      <p:pic>
        <p:nvPicPr>
          <p:cNvPr id="113" name="71" descr=""/>
          <p:cNvPicPr/>
          <p:nvPr/>
        </p:nvPicPr>
        <p:blipFill>
          <a:blip r:embed="rId2"/>
          <a:stretch/>
        </p:blipFill>
        <p:spPr>
          <a:xfrm>
            <a:off x="5740560" y="0"/>
            <a:ext cx="34034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D0C-B95C-4634-8CD9-C30B491E6B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owards parallel solu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se of the systems has led to problem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ottlenecks created by highly computational modules  (blocking all other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Large datasets cannot easily fit into the memory of a single compute no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are a number of schemes for adding module parallelism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classify them into three main group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84A-3344-468B-97CC-B3C24E2109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1. Functional or Task Parallelis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ach module can execute on a separate processor or machi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coars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495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ample: AVS5 Remote Parallel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6540480" cy="29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EE0-D899-49F9-8870-83995D958C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2. Parallel Modul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ationally expensive modules are parallelised / vectorised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fin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9360" y="3124080"/>
            <a:ext cx="8583480" cy="35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DEC-8803-4912-8DCD-3F18D75CEB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3. Parallel Syst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modules pass data using parallel communication method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ne grain but no overheads from composition / redistrib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50920" y="3414600"/>
            <a:ext cx="7993080" cy="34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A8C-EB90-4C9C-9F9C-492DFBF863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ystem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4952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vsi - Visualization system interfac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idd/dd - Data Distrib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974960" y="1963800"/>
            <a:ext cx="519408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5BC-1608-4523-9673-2350137125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 Too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interactive tool to allow the user to describe the specification of a parallel modul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pecification include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 decomposition strategy for in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arget platform and system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osition of out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ighborhood information and boundary conditions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take a closer look at some of the distribution schem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BFA-E2DF-48D5-AD84-61C802732C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562880" cy="19047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108680" cy="2065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182088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ECC-B56C-42B5-B8A4-63C2187D0C5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ducing the tagged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889280" y="1752480"/>
            <a:ext cx="53654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222-4670-4E72-AB29-29CB9030649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example application has been developed to integrate a parallel version of marching cubes (iso-surface generation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put data is distributed in blocks (BLOCK, BLOCK, BLOCK)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Workers generate a list of triangles which form part of complete iso-surface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arness combines surface portions into complete datase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ome test results have been obtained..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7B2-068E-46F2-BF1B-AD250EF10A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sosurfac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1" name="vipar-ov-1-image-18a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2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E33-2116-4742-9272-A1360B6D676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omputing at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ndamental Computer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xt slid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computing, e.g.,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lecular modelling, chemistry, engineering,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edicine, social anthropology, ageing proces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6" name="uom_today" descr=""/>
          <p:cNvPicPr/>
          <p:nvPr/>
        </p:nvPicPr>
        <p:blipFill>
          <a:blip r:embed="rId1"/>
          <a:stretch/>
        </p:blipFill>
        <p:spPr>
          <a:xfrm>
            <a:off x="0" y="4448160"/>
            <a:ext cx="725976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1981080"/>
            <a:ext cx="3124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0,000 computers on 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5,000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rom &gt; 150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67B-4812-46FC-9E07-00CFAAEB9A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s of Isosurfac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3" name="vipar-ov-1-image-19" descr=""/>
          <p:cNvPicPr/>
          <p:nvPr/>
        </p:nvPicPr>
        <p:blipFill>
          <a:blip r:embed="rId1"/>
          <a:srcRect l="0" t="0" r="11630" b="0"/>
          <a:stretch/>
        </p:blipFill>
        <p:spPr>
          <a:xfrm>
            <a:off x="0" y="1219320"/>
            <a:ext cx="8686800" cy="54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C69-4137-4F2F-A034-1CF68F0CF26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erformance - Hydrogen Data Se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5" name="vipar-ov-1-image-20a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3C7-2F71-4DCF-9E7F-F81E0A2009D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Rendering Framework for Visualization Applic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295280" y="5105520"/>
            <a:ext cx="1371600" cy="920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057400" y="-6480"/>
            <a:ext cx="18432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1752480" cy="50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Multi-Pipe Edition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ject Research Partne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dvanced Visual Systems (AV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-Visualization Software &amp; Solution Vendo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ubota Graphics Technology, Inc. Partn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Graphics Technology Partner (MPU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chester Visualisation Centre, IAC: International AVS Centre (Research Partne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82880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03C-1F53-482A-A04A-F39AF7E64B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pplication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eoSciences (Oil &amp; Gas)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GOCAD, GeoQues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Medical 3D Reconstruction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DICOM Image Stack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CF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lot3D, CFX, Fluen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FE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utodyn3D, Goodyea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I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rc/Info, Oracle Spatia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ata Mining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Oracle, Informix, ODBC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352680"/>
            <a:ext cx="2209680" cy="1143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/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209680"/>
            <a:ext cx="1828800" cy="3429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y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1905120"/>
            <a:ext cx="685800" cy="4114800"/>
          </a:xfrm>
          <a:custGeom>
            <a:avLst/>
            <a:gdLst>
              <a:gd name="textAreaLeft" fmla="*/ 0 w 685800"/>
              <a:gd name="textAreaRight" fmla="*/ 247680 w 6858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27440" y="475776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F36-BAB8-4357-97F9-CE33125A2EA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mmersive Environment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AV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Reality Cen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owerWal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Do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.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5" name="trimension-rooms6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5181480" cy="3752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86280" y="55548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mension Systems, 3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0BC-B9FB-48B9-94E0-8B61A8A42D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Rendering Syste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penGL 1.1 / 1.2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-performance data struc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D/3D Tex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TF Volume Rend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Quad-buffer Stereo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 portability (Windows, UNIX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limentary Software renderer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(X-server, Printing, Postscript, CGM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26692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D04-2421-4667-9911-C591F31DB9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PU Renderer means no changes to application laye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1474920" y="2819520"/>
            <a:ext cx="20206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0880" y="5334120"/>
            <a:ext cx="2021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13040" y="5334120"/>
            <a:ext cx="1535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FC/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4240" y="5334120"/>
            <a:ext cx="1454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/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19440" y="5105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4960" y="2819520"/>
            <a:ext cx="1778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99160" y="2819520"/>
            <a:ext cx="1454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8200" y="3581280"/>
            <a:ext cx="2667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419720"/>
            <a:ext cx="5172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2400" y="3581280"/>
            <a:ext cx="2586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62240" y="2514600"/>
            <a:ext cx="6095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62240" y="5257800"/>
            <a:ext cx="6095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38680" y="330984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90160" y="53672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8800" y="4987800"/>
            <a:ext cx="2225520" cy="1870200"/>
            <a:chOff x="1828800" y="4987800"/>
            <a:chExt cx="2225520" cy="1870200"/>
          </a:xfrm>
        </p:grpSpPr>
        <p:sp>
          <p:nvSpPr>
            <p:cNvPr id="387" name=""/>
            <p:cNvSpPr/>
            <p:nvPr/>
          </p:nvSpPr>
          <p:spPr>
            <a:xfrm>
              <a:off x="2225520" y="4987800"/>
              <a:ext cx="1828800" cy="1447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C8A-40E6-4ECC-A0EE-98AAC697F8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Viewer 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58208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akes Advantage of Virtual Renderer Structu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6002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860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1752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81280"/>
            <a:ext cx="22860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1523880"/>
            <a:ext cx="19810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er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2209680"/>
            <a:ext cx="20574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e 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038480"/>
            <a:ext cx="2057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600200"/>
            <a:ext cx="25146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2438280"/>
            <a:ext cx="25146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se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i-strip, norm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581280"/>
            <a:ext cx="25146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9280" y="47926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6765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04" name=""/>
          <p:cNvSpPr/>
          <p:nvPr/>
        </p:nvSpPr>
        <p:spPr>
          <a:xfrm>
            <a:off x="3505320" y="4952880"/>
            <a:ext cx="22096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71800" y="1905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19051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3880" y="1066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790960" y="19810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198108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705720" y="5257800"/>
            <a:ext cx="1066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457200" y="1447920"/>
            <a:ext cx="8229600" cy="4944960"/>
            <a:chOff x="457200" y="1447920"/>
            <a:chExt cx="8229600" cy="4944960"/>
          </a:xfrm>
        </p:grpSpPr>
        <p:sp>
          <p:nvSpPr>
            <p:cNvPr id="414" name=""/>
            <p:cNvSpPr/>
            <p:nvPr/>
          </p:nvSpPr>
          <p:spPr>
            <a:xfrm>
              <a:off x="5791320" y="1447920"/>
              <a:ext cx="2895480" cy="42670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" y="593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678-4953-4782-8964-719D8A4889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Utility (MPU)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GI Multi-pipe Utility (MPU) is a multi-pipe programming interface for OpenGL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ey features 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lexible pipe, window and channel configuration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Easy integration in OpenGL application frame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herent support for Stereo and Head Motion Track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ransparent parallelization of rendering process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943600" y="4578480"/>
            <a:ext cx="320040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75A-C657-4D69-8BC8-94C1CC8FFB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er Innov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orld first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ored program 1948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mercial compute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dex regist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Virtual Memo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flow machin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0" name="mark1" descr=""/>
          <p:cNvPicPr/>
          <p:nvPr/>
        </p:nvPicPr>
        <p:blipFill>
          <a:blip r:embed="rId1"/>
          <a:stretch/>
        </p:blipFill>
        <p:spPr>
          <a:xfrm>
            <a:off x="3200400" y="3402000"/>
            <a:ext cx="594360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B41-E7D2-4D4D-8B29-00D30B0C82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Key Benefit for AV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SCII configuration file format, the MPU provides run-time portability of OpenGL-based applications between single-user and large-scale environments such a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AVE Environments (4/5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alityCenter Curved Screen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owerWall, HoloDes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mmersaDes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Deploymen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1" name="mpu_fig1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272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FFF-724F-48DA-B829-D42E3DA885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external camera confi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ultiple Display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nnels for Single Scen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Applic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4" name="mpu-snapshot" descr=""/>
          <p:cNvPicPr/>
          <p:nvPr/>
        </p:nvPicPr>
        <p:blipFill>
          <a:blip r:embed="rId1"/>
          <a:stretch/>
        </p:blipFill>
        <p:spPr>
          <a:xfrm>
            <a:off x="4257720" y="2057400"/>
            <a:ext cx="4886280" cy="4062240"/>
          </a:xfrm>
          <a:prstGeom prst="rect">
            <a:avLst/>
          </a:prstGeom>
          <a:ln w="0">
            <a:noFill/>
          </a:ln>
        </p:spPr>
      </p:pic>
      <p:pic>
        <p:nvPicPr>
          <p:cNvPr id="425" name="mpu_fig2" descr=""/>
          <p:cNvPicPr/>
          <p:nvPr/>
        </p:nvPicPr>
        <p:blipFill>
          <a:blip r:embed="rId2"/>
          <a:stretch/>
        </p:blipFill>
        <p:spPr>
          <a:xfrm>
            <a:off x="0" y="4589640"/>
            <a:ext cx="2590920" cy="22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A89-E9BF-4910-8DF3-ACD7A98A3F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View-Renderer Menu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 of View attribut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inimal UI chang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ynamic switching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/out of MPU mod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mple Menu contr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8" name="mpu-view-menu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724640" cy="2498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05120" y="3809880"/>
            <a:ext cx="23619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A36-4BFC-40F4-B680-BB7DA238058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XP/MPU in 4-wall CAV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 Multi-Pipe Edition Tria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4-Wall CAVE configur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tereo Displa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ikkawa-san &amp; Miyachi-san of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GT Inc., pictured in CAVE at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ISSHO Electronics, Tokyo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2" name="jpcave-small" descr=""/>
          <p:cNvPicPr/>
          <p:nvPr/>
        </p:nvPicPr>
        <p:blipFill>
          <a:blip r:embed="rId1"/>
          <a:stretch/>
        </p:blipFill>
        <p:spPr>
          <a:xfrm>
            <a:off x="5549760" y="1004760"/>
            <a:ext cx="3594240" cy="58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DA1-B907-4D0C-A889-61D7C6F010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Probing the universe via an intercontinental cluster of T3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earching for Pulsa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5" name="meta_sc99%20copy" descr=""/>
          <p:cNvPicPr/>
          <p:nvPr/>
        </p:nvPicPr>
        <p:blipFill>
          <a:blip r:embed="rId1"/>
          <a:srcRect l="3594" t="22413" r="5610" b="47646"/>
          <a:stretch/>
        </p:blipFill>
        <p:spPr>
          <a:xfrm>
            <a:off x="1143000" y="327672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etacomputin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437" name="sc99topology" descr=""/>
          <p:cNvPicPr/>
          <p:nvPr/>
        </p:nvPicPr>
        <p:blipFill>
          <a:blip r:embed="rId1"/>
          <a:stretch/>
        </p:blipFill>
        <p:spPr>
          <a:xfrm>
            <a:off x="0" y="266760"/>
            <a:ext cx="9120240" cy="65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8A5-C942-4558-8A78-9B7D9054CA6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 logistics are formidabl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chines are busy production machin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ystem administrators make the machines available manu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experiments were run at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4:00 in Portland Oregon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16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Pittsburgh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07:00 in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sukuba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23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Manchester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idnight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Stuttgart it is midnight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rm and tact were required!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D01-50EE-430E-A560-F68FF79664B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d there’s the networking!!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t took two weeks and over a  hundred emails to set up the Manchester-Stuttgart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LR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Pittsburgh staff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t up the transatlantic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ERNA tried to get a PVC from Manchester to Pittsburgh but it was held up by problems in the US. It finally became available the day after the final experiment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02B-2989-40E7-A80F-03D09D7CA9A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handling and transmiss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ll 10 Gigabytes of input data initially reside on the Manchester T3E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R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presents 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pproximately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one hour of observations of the globular cluster M80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rocessors on all hosts, both local and remote, are enlisted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uring the run, huge volumes of data are transferred across the network to remote processors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e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just enough remote processors to saturate the available bandwidth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t the end of the run, multiple transformed time series are sent back by FTP for post-processing in Manchester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9D3-91CF-4D4A-8509-1F9546CC59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advantages would this bring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serving time may be limited, real-time processing allows it to be used more effectively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may be a race to identify something new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arching algorithms can be dynamically updated in the light of post-processing result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liminating tapes is more elegant and saves staff time at both e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05F-F248-4088-B84D-8BDC582304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vides services to: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 Academi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upercomputing (CSAR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formation &amp; data services (MIMA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jor node in UK Academic Net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rnational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ternational AVS Centre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IMA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overnment, Commerce &amp; Industr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upercomputing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ternet exchange poin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etworks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ultimedia (Advanced Telematics Centr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nsultancy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&amp;D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3" name="Ag00023_" descr=""/>
          <p:cNvPicPr/>
          <p:nvPr/>
        </p:nvPicPr>
        <p:blipFill>
          <a:blip r:embed="rId1"/>
          <a:stretch/>
        </p:blipFill>
        <p:spPr>
          <a:xfrm>
            <a:off x="6681960" y="1523880"/>
            <a:ext cx="24620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63E-336D-4DFC-B762-5ED352E6BF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o what are we trying to do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1981080" cy="259092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Use it all in Real-Ti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reater throughput of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48" name="09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146320"/>
          </a:xfrm>
          <a:prstGeom prst="rect">
            <a:avLst/>
          </a:prstGeom>
          <a:ln w="0">
            <a:noFill/>
          </a:ln>
        </p:spPr>
      </p:pic>
      <p:pic>
        <p:nvPicPr>
          <p:cNvPr id="449" name="DCP_1614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276360" cy="2174760"/>
          </a:xfrm>
          <a:prstGeom prst="rect">
            <a:avLst/>
          </a:prstGeom>
          <a:ln w="0">
            <a:noFill/>
          </a:ln>
        </p:spPr>
      </p:pic>
      <p:pic>
        <p:nvPicPr>
          <p:cNvPr id="450" name="CrayT3E-Nicola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266920" cy="2279520"/>
          </a:xfrm>
          <a:prstGeom prst="rect">
            <a:avLst/>
          </a:prstGeom>
          <a:ln w="0">
            <a:noFill/>
          </a:ln>
        </p:spPr>
      </p:pic>
      <p:pic>
        <p:nvPicPr>
          <p:cNvPr id="451" name="BOSSES" descr=""/>
          <p:cNvPicPr/>
          <p:nvPr/>
        </p:nvPicPr>
        <p:blipFill>
          <a:blip r:embed="rId4"/>
          <a:stretch/>
        </p:blipFill>
        <p:spPr>
          <a:xfrm>
            <a:off x="2438280" y="4433760"/>
            <a:ext cx="3233880" cy="24242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895480" y="4419720"/>
            <a:ext cx="2210040" cy="53316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3200400"/>
            <a:ext cx="2133720" cy="13716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139-123A-419E-9054-1703C6E6AE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Finally thank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all those at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Computing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chester Visualizatipn Centre, CSAR, Manchester Muse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SC Farnborough, HLRS,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Pittsburgh Supercomputing Center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TL at Tsukuba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Liverpool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EPSRC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KGT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VS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the telecommunications providers on three continent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DD2-F840-4238-9BEE-2C454EA810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How to contact m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Visualization Centre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M13 9P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ted Kingdom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095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800 (fax)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.t.hewitt@man.ac.uk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man.ac.uk/MVC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csar.cfs.ac.uk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iavsc.org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F42-7D71-4562-94CD-16FFF105BB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Building a City Info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19720"/>
            <a:ext cx="5715000" cy="1523880"/>
          </a:xfrm>
          <a:prstGeom prst="ellipse">
            <a:avLst/>
          </a:prstGeom>
          <a:solidFill>
            <a:srgbClr val="b3b9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1182600"/>
            <a:ext cx="5079960" cy="2297160"/>
          </a:xfrm>
          <a:prstGeom prst="ellipse">
            <a:avLst/>
          </a:prstGeom>
          <a:solidFill>
            <a:srgbClr val="fe9b03"/>
          </a:solidFill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066680"/>
            <a:ext cx="1905120" cy="472464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838080"/>
            <a:ext cx="2057400" cy="4724640"/>
          </a:xfrm>
          <a:prstGeom prst="ellipse">
            <a:avLst/>
          </a:prstGeom>
          <a:solidFill>
            <a:srgbClr val="b3b9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0000" y="57168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l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556080"/>
            <a:ext cx="736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M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1840" y="3562200"/>
            <a:ext cx="1420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yal Northe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lege of 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2895480"/>
            <a:ext cx="117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2440" y="507960"/>
            <a:ext cx="231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etropoli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8320" y="2133720"/>
            <a:ext cx="236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Edu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 (G-M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480" y="1390680"/>
            <a:ext cx="1628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320" y="990720"/>
            <a:ext cx="204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Tow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914400"/>
            <a:ext cx="489240" cy="35388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2193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1352520"/>
            <a:ext cx="1047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ll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14300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066680"/>
            <a:ext cx="404640" cy="3654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20040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276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27672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06560" y="1486080"/>
            <a:ext cx="1676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400800"/>
            <a:ext cx="396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Community Information 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411480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Pop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2960" y="5562720"/>
            <a:ext cx="1195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llage H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2920" y="4162320"/>
            <a:ext cx="533520" cy="6098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5334120"/>
            <a:ext cx="304920" cy="30456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50292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54864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04920" y="4114800"/>
            <a:ext cx="1447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505320"/>
            <a:ext cx="533160" cy="76176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8480" y="4057560"/>
            <a:ext cx="174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ltimedia 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28800" y="3962520"/>
            <a:ext cx="317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914640"/>
            <a:ext cx="7524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81400" y="3295800"/>
            <a:ext cx="93348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1752480"/>
            <a:ext cx="1713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9800" y="1333440"/>
            <a:ext cx="10476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10120" y="1266840"/>
            <a:ext cx="190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095880" y="3286080"/>
            <a:ext cx="2095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1920" y="355284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3581280"/>
            <a:ext cx="1082880" cy="5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200" y="3429000"/>
            <a:ext cx="55404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4876920"/>
            <a:ext cx="890640" cy="849240"/>
            <a:chOff x="1143000" y="4876920"/>
            <a:chExt cx="890640" cy="849240"/>
          </a:xfrm>
        </p:grpSpPr>
        <p:sp>
          <p:nvSpPr>
            <p:cNvPr id="170" name=""/>
            <p:cNvSpPr/>
            <p:nvPr/>
          </p:nvSpPr>
          <p:spPr>
            <a:xfrm>
              <a:off x="1200240" y="4876920"/>
              <a:ext cx="777960" cy="777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6320" y="52308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200" y="55134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2760" y="556920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3000" y="534384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7400" y="4977000"/>
              <a:ext cx="15696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4419720"/>
            <a:ext cx="533520" cy="5331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7000" y="3987720"/>
            <a:ext cx="258480" cy="2192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3728880"/>
            <a:ext cx="40968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447920"/>
            <a:ext cx="488880" cy="35388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838080"/>
            <a:ext cx="212760" cy="581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009800"/>
            <a:ext cx="488880" cy="3729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9680" y="154944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aching 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64280" y="888840"/>
            <a:ext cx="2140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use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f Science and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6160" y="5505480"/>
            <a:ext cx="890640" cy="933480"/>
            <a:chOff x="4286160" y="5505480"/>
            <a:chExt cx="890640" cy="933480"/>
          </a:xfrm>
        </p:grpSpPr>
        <p:sp>
          <p:nvSpPr>
            <p:cNvPr id="185" name=""/>
            <p:cNvSpPr/>
            <p:nvPr/>
          </p:nvSpPr>
          <p:spPr>
            <a:xfrm>
              <a:off x="4343400" y="5589720"/>
              <a:ext cx="777960" cy="77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38600" y="55054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0000" y="5632560"/>
              <a:ext cx="15696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9840" y="5943600"/>
              <a:ext cx="156960" cy="1573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360" y="622620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25920" y="628164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6160" y="60562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0560" y="5689800"/>
              <a:ext cx="15732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945480" y="2743200"/>
            <a:ext cx="1319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ulti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603520"/>
            <a:ext cx="2286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76400" y="3689280"/>
            <a:ext cx="409680" cy="2682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1000" y="4276800"/>
            <a:ext cx="405000" cy="3650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02120" y="3492360"/>
            <a:ext cx="5079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17524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22096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45000" y="1936800"/>
            <a:ext cx="901800" cy="20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182000" y="2400480"/>
            <a:ext cx="1047600" cy="247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64400" y="1523880"/>
            <a:ext cx="14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ston Brook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2514600"/>
            <a:ext cx="14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akwood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4600" y="4610160"/>
            <a:ext cx="250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kers Education Asso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61520" y="5105520"/>
            <a:ext cx="339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Community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FEE-B80F-4550-9027-7E3228D06F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-line access to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analysis/manipulation servi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pecialist support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ocumentation, training &amp; user suppor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08" name="MIMASDIG" descr=""/>
          <p:cNvPicPr/>
          <p:nvPr/>
        </p:nvPicPr>
        <p:blipFill>
          <a:blip r:embed="rId1"/>
          <a:stretch/>
        </p:blipFill>
        <p:spPr>
          <a:xfrm>
            <a:off x="371520" y="228600"/>
            <a:ext cx="877248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F74-E769-4A83-B4D5-605FFD746E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ational HPC services continuously since 1972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lagship supercomputer service for UK Academia &amp; Commer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10" name="xx012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280368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19720" y="1522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mputer Sciences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Sep06%5E28" descr=""/>
          <p:cNvPicPr/>
          <p:nvPr/>
        </p:nvPicPr>
        <p:blipFill>
          <a:blip r:embed="rId3"/>
          <a:stretch/>
        </p:blipFill>
        <p:spPr>
          <a:xfrm>
            <a:off x="0" y="382428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A61-F229-4B7B-95C5-94AACFACF1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9T13:57:04Z</dcterms:created>
  <dc:creator>W T Hewitt</dc:creator>
  <dc:description/>
  <dc:language>en-US</dc:language>
  <cp:lastModifiedBy>W T Hewitt</cp:lastModifiedBy>
  <cp:lastPrinted>2000-10-04T11:07:16Z</cp:lastPrinted>
  <dcterms:modified xsi:type="dcterms:W3CDTF">2000-10-06T12:20:20Z</dcterms:modified>
  <cp:revision>32</cp:revision>
  <dc:subject/>
  <dc:title>Proposal to host Euro-Par 2001 in Manchester UK </dc:title>
</cp:coreProperties>
</file>