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media/image57.jpeg" ContentType="image/jpeg"/>
  <Override PartName="/ppt/media/image63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2.png" ContentType="image/png"/>
  <Override PartName="/ppt/media/image51.png" ContentType="image/png"/>
  <Override PartName="/ppt/media/image49.wmf" ContentType="image/x-wmf"/>
  <Override PartName="/ppt/media/image50.png" ContentType="image/png"/>
  <Override PartName="/ppt/media/image48.wmf" ContentType="image/x-wmf"/>
  <Override PartName="/ppt/media/image47.wmf" ContentType="image/x-wmf"/>
  <Override PartName="/ppt/media/image13.jpeg" ContentType="image/jpeg"/>
  <Override PartName="/ppt/media/image20.png" ContentType="image/png"/>
  <Override PartName="/ppt/media/image10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17.jpeg" ContentType="image/jpeg"/>
  <Override PartName="/ppt/media/image45.wmf" ContentType="image/x-wmf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22.png" ContentType="image/png"/>
  <Override PartName="/ppt/media/image59.png" ContentType="image/png"/>
  <Override PartName="/ppt/media/image60.png" ContentType="image/png"/>
  <Override PartName="/ppt/media/image34.png" ContentType="image/png"/>
  <Override PartName="/ppt/media/image71.png" ContentType="image/png"/>
  <Override PartName="/ppt/media/image29.png" ContentType="image/png"/>
  <Override PartName="/ppt/media/image72.png" ContentType="image/png"/>
  <Override PartName="/ppt/media/image70.jpeg" ContentType="image/jpeg"/>
  <Override PartName="/ppt/media/image5.png" ContentType="image/png"/>
  <Override PartName="/ppt/media/image35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4.png" ContentType="image/png"/>
  <Override PartName="/ppt/media/image7.jpeg" ContentType="image/jpeg"/>
  <Override PartName="/ppt/media/image65.png" ContentType="image/png"/>
  <Override PartName="/ppt/media/image27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23.png" ContentType="image/png"/>
  <Override PartName="/ppt/media/image53.png" ContentType="image/png"/>
  <Override PartName="/ppt/media/image6.png" ContentType="image/png"/>
  <Override PartName="/ppt/media/image36.png" ContentType="image/png"/>
  <Override PartName="/ppt/media/image9.jpeg" ContentType="image/jpeg"/>
  <Override PartName="/ppt/media/image14.png" ContentType="image/png"/>
  <Override PartName="/ppt/media/image11.gif" ContentType="image/gif"/>
  <Override PartName="/ppt/media/image44.wmf" ContentType="image/x-wmf"/>
  <Override PartName="/ppt/media/image12.png" ContentType="image/png"/>
  <Override PartName="/ppt/media/image32.png" ContentType="image/png"/>
  <Override PartName="/ppt/media/image33.png" ContentType="image/png"/>
  <Override PartName="/ppt/media/image37.png" ContentType="image/png"/>
  <Override PartName="/ppt/media/image39.png" ContentType="image/png"/>
  <Override PartName="/ppt/media/image42.wmf" ContentType="image/x-wmf"/>
  <Override PartName="/ppt/media/image40.png" ContentType="image/png"/>
  <Override PartName="/ppt/media/image3.jpeg" ContentType="image/jpeg"/>
  <Override PartName="/ppt/media/image41.png" ContentType="image/png"/>
  <Override PartName="/ppt/media/image46.wmf" ContentType="image/x-wmf"/>
  <Override PartName="/ppt/media/image69.jpeg" ContentType="image/jpeg"/>
  <Override PartName="/ppt/media/image18.gif" ContentType="image/gif"/>
  <Override PartName="/ppt/media/image4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742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440" y="740880"/>
            <a:ext cx="4940280" cy="37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91160"/>
            <a:ext cx="494676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9137-F41A-49EB-B345-F302BA2610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43520" cy="370692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040" y="4710240"/>
            <a:ext cx="494676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king a bad job often gives better scal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e thing happens if a slower CPU is empl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43520" cy="37069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040" y="4710240"/>
            <a:ext cx="494676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om this little number juggle we not only learn that bad programs scale be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wing that processing data in big chunks gives better speedup we conclude that the more coarse grained our parallelization is, the better performance we exp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43520" cy="37069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040" y="4710240"/>
            <a:ext cx="494676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irst point is true also for shared memory approaches but the second and the third are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43520" cy="37069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040" y="4710240"/>
            <a:ext cx="494676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ntion that hardware vendors, software vendors, academic and industrial researchers took part in developing MP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 the de facto stand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k is continu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43520" cy="37069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040" y="4710240"/>
            <a:ext cx="494676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compilers allow you to specify a default number of proces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important to notice that mpprun does not always pick up path variables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ver forget to have a slide or two explaining how to run a mpi program in the environment used for the workshop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also use mpirun on the Cray-t3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PI does not specify mpirun. But does specify an optional mpiexec (check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96760" y="4692600"/>
            <a:ext cx="4950000" cy="444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your measure of success we are one of the best Univer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U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tables we appear around 5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C5E0-20B0-40FC-93E1-5AE0622BC5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98200" y="4692600"/>
            <a:ext cx="4946760" cy="444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gain, Fortran has either fixed or free sour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0FC8-4CCE-4479-85E5-98269E93D6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898200" y="4692600"/>
            <a:ext cx="4946760" cy="444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gain, Fortran has either fixed or free sour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C11B-4D63-4374-9D53-859AFAD435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896760" y="4692600"/>
            <a:ext cx="4950000" cy="44467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chester Computing - was MCC - was UMR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cademic service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viers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M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Academia on the National Serv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ST Distribution and pr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media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deo fac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ldImg"/>
          </p:nvPr>
        </p:nvSpPr>
        <p:spPr>
          <a:xfrm>
            <a:off x="901800" y="743040"/>
            <a:ext cx="4938480" cy="37036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8D89-188A-4D96-84E0-8DFD7971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C26B-9D9A-4BC7-A29B-A8101F86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A42D-2AF2-452F-9C95-FBFE7E9B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4BF5-7A6B-4C02-9FB9-A9F7C934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5480-4079-4310-BC16-15B8C606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F1AF-767A-402E-86BC-201CE6DD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6D21-1B25-4644-AD3D-C72F5273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A56B-D3AE-4321-8CF2-8F023457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6D93-C47F-4CEB-932C-DCD53F3A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E445-41E8-4811-A98F-CA35DB30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4CEF-7491-474E-9252-D53876D3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239-10C7-451F-B199-E93CEC2D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C3B7-0971-42E8-8C20-BC7A62F9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2C21-920E-440A-8C60-FF08C3D7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F388-61E5-4216-AF9D-E82C5D57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D8CE-A47C-47C8-8F99-7B54A3FD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9FCA-8366-4782-81A8-0B6DB662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564-FF1B-4C48-8C71-A2FD9FD6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3923-5F60-4499-ADE3-3CE98CAD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CB9-F1C9-45FB-B885-4E8D34A9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5490-E4BC-4DEE-A136-269D7984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7CC-F0F4-4EFE-BFDD-989347F7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D37E-45C1-44D3-B51C-C9E9026C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3BC5-E31F-4581-841E-C5679A88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4349-E793-4552-A40F-0E96F8F59E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752480" y="1523880"/>
            <a:ext cx="693432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523880"/>
            <a:ext cx="15264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6248520"/>
            <a:ext cx="853452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mvclogo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1428480" cy="714240"/>
          </a:xfrm>
          <a:prstGeom prst="rect">
            <a:avLst/>
          </a:prstGeom>
          <a:ln w="0">
            <a:noFill/>
          </a:ln>
        </p:spPr>
      </p:pic>
      <p:pic>
        <p:nvPicPr>
          <p:cNvPr id="9" name="mrccs" descr=""/>
          <p:cNvPicPr/>
          <p:nvPr/>
        </p:nvPicPr>
        <p:blipFill>
          <a:blip r:embed="rId3"/>
          <a:stretch/>
        </p:blipFill>
        <p:spPr>
          <a:xfrm>
            <a:off x="6629400" y="1295280"/>
            <a:ext cx="1747800" cy="44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3BBC-1A63-492A-A03E-0E85E620B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914400"/>
            <a:ext cx="670572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914400"/>
            <a:ext cx="15228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5867280"/>
            <a:ext cx="830592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mvclogo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1428480" cy="714240"/>
          </a:xfrm>
          <a:prstGeom prst="rect">
            <a:avLst/>
          </a:prstGeom>
          <a:ln w="0">
            <a:noFill/>
          </a:ln>
        </p:spPr>
      </p:pic>
      <p:pic>
        <p:nvPicPr>
          <p:cNvPr id="54" name="mrccs" descr=""/>
          <p:cNvPicPr/>
          <p:nvPr/>
        </p:nvPicPr>
        <p:blipFill>
          <a:blip r:embed="rId3"/>
          <a:stretch/>
        </p:blipFill>
        <p:spPr>
          <a:xfrm>
            <a:off x="6629400" y="685800"/>
            <a:ext cx="1747800" cy="446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Second Outline Level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image" Target="../media/image39.png"/><Relationship Id="rId12" Type="http://schemas.openxmlformats.org/officeDocument/2006/relationships/image" Target="../media/image39.png"/><Relationship Id="rId13" Type="http://schemas.openxmlformats.org/officeDocument/2006/relationships/image" Target="../media/image39.png"/><Relationship Id="rId14" Type="http://schemas.openxmlformats.org/officeDocument/2006/relationships/image" Target="../media/image39.png"/><Relationship Id="rId15" Type="http://schemas.openxmlformats.org/officeDocument/2006/relationships/image" Target="../media/image39.png"/><Relationship Id="rId16" Type="http://schemas.openxmlformats.org/officeDocument/2006/relationships/image" Target="../media/image39.png"/><Relationship Id="rId17" Type="http://schemas.openxmlformats.org/officeDocument/2006/relationships/image" Target="../media/image39.png"/><Relationship Id="rId18" Type="http://schemas.openxmlformats.org/officeDocument/2006/relationships/image" Target="../media/image39.png"/><Relationship Id="rId19" Type="http://schemas.openxmlformats.org/officeDocument/2006/relationships/image" Target="../media/image39.png"/><Relationship Id="rId20" Type="http://schemas.openxmlformats.org/officeDocument/2006/relationships/image" Target="../media/image39.png"/><Relationship Id="rId21" Type="http://schemas.openxmlformats.org/officeDocument/2006/relationships/image" Target="../media/image39.png"/><Relationship Id="rId22" Type="http://schemas.openxmlformats.org/officeDocument/2006/relationships/image" Target="../media/image39.png"/><Relationship Id="rId23" Type="http://schemas.openxmlformats.org/officeDocument/2006/relationships/image" Target="../media/image39.png"/><Relationship Id="rId24" Type="http://schemas.openxmlformats.org/officeDocument/2006/relationships/image" Target="../media/image39.png"/><Relationship Id="rId25" Type="http://schemas.openxmlformats.org/officeDocument/2006/relationships/image" Target="../media/image39.png"/><Relationship Id="rId26" Type="http://schemas.openxmlformats.org/officeDocument/2006/relationships/image" Target="../media/image39.png"/><Relationship Id="rId27" Type="http://schemas.openxmlformats.org/officeDocument/2006/relationships/image" Target="../media/image39.png"/><Relationship Id="rId28" Type="http://schemas.openxmlformats.org/officeDocument/2006/relationships/image" Target="../media/image39.png"/><Relationship Id="rId29" Type="http://schemas.openxmlformats.org/officeDocument/2006/relationships/image" Target="../media/image39.png"/><Relationship Id="rId30" Type="http://schemas.openxmlformats.org/officeDocument/2006/relationships/image" Target="../media/image39.png"/><Relationship Id="rId31" Type="http://schemas.openxmlformats.org/officeDocument/2006/relationships/image" Target="../media/image39.png"/><Relationship Id="rId32" Type="http://schemas.openxmlformats.org/officeDocument/2006/relationships/image" Target="../media/image39.png"/><Relationship Id="rId33" Type="http://schemas.openxmlformats.org/officeDocument/2006/relationships/image" Target="../media/image39.png"/><Relationship Id="rId34" Type="http://schemas.openxmlformats.org/officeDocument/2006/relationships/image" Target="../media/image39.png"/><Relationship Id="rId35" Type="http://schemas.openxmlformats.org/officeDocument/2006/relationships/image" Target="../media/image39.png"/><Relationship Id="rId36" Type="http://schemas.openxmlformats.org/officeDocument/2006/relationships/image" Target="../media/image40.png"/><Relationship Id="rId3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16.jpeg"/><Relationship Id="rId3" Type="http://schemas.openxmlformats.org/officeDocument/2006/relationships/image" Target="../media/image70.jpe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What have the Earths' Mantle &amp; an Egyptian Mummy in Common?  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W T Hewitt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irector Manchester Visualization Centr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&amp;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SAR User Services Manag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101" name="uom" descr=""/>
          <p:cNvPicPr/>
          <p:nvPr/>
        </p:nvPicPr>
        <p:blipFill>
          <a:blip r:embed="rId1"/>
          <a:stretch/>
        </p:blipFill>
        <p:spPr>
          <a:xfrm>
            <a:off x="1219320" y="5067360"/>
            <a:ext cx="73278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anchester Computing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achine Room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ray T3E-1200E, 816 PE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Fujitsu VPP300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, 8 P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IBM SP2 90 P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SGI Intel IA-64 8 P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rigin2000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16 PE (CSAR),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44 PE (Hillier/Hewitt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16 PE (Brass)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40 PE (Local HPC)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8 PE (NOVICE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un E6500 24 PE (MIMAS),  E4500, E4000 (JSTOR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100 PCs for services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wo tape Silos (150 TB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585C-E465-4039-A5CB-DDCE761AC30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Manchester Visualization Centr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1905120"/>
            <a:ext cx="4724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Graphics,  visualization, multimedia,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image processing &amp; Web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Since 19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VIP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40 CPU Origin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6 x InfiniteReality 3 Graphics Pip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Panoram GVR 120 ( Cylindrical Screen, </a:t>
            </a:r>
            <a:br>
              <a:rPr sz="1600"/>
            </a:b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Three Electrahome Projectors, Active Stere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The International AVS 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Research &amp;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Teaching &amp; Supervising MSc &amp; Ph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DCP_1614" descr=""/>
          <p:cNvPicPr/>
          <p:nvPr/>
        </p:nvPicPr>
        <p:blipFill>
          <a:blip r:embed="rId1"/>
          <a:stretch/>
        </p:blipFill>
        <p:spPr>
          <a:xfrm>
            <a:off x="5410080" y="4379760"/>
            <a:ext cx="3733920" cy="2478240"/>
          </a:xfrm>
          <a:prstGeom prst="rect">
            <a:avLst/>
          </a:prstGeom>
          <a:ln w="0">
            <a:noFill/>
          </a:ln>
        </p:spPr>
      </p:pic>
      <p:pic>
        <p:nvPicPr>
          <p:cNvPr id="219" name="DCP_1615" descr=""/>
          <p:cNvPicPr/>
          <p:nvPr/>
        </p:nvPicPr>
        <p:blipFill>
          <a:blip r:embed="rId2"/>
          <a:stretch/>
        </p:blipFill>
        <p:spPr>
          <a:xfrm>
            <a:off x="5715000" y="1219320"/>
            <a:ext cx="3429000" cy="227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2945-0705-43E4-9900-498354499F5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324480" y="990720"/>
            <a:ext cx="259092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Research &amp; Development Area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cientific visualization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pplications of HPC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istributed &amp; Meta Computing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atasets &amp; data mining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High Performance Computing Technologies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pplications of High speed Wide Area Network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NURBS, Animation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3D Graphics, Radiosity, &amp; Ray-tracing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WWW &amp; Collaborative working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23" name="Ag00011_" descr=""/>
          <p:cNvPicPr/>
          <p:nvPr/>
        </p:nvPicPr>
        <p:blipFill>
          <a:blip r:embed="rId1"/>
          <a:stretch/>
        </p:blipFill>
        <p:spPr>
          <a:xfrm>
            <a:off x="6324480" y="1676520"/>
            <a:ext cx="2494080" cy="28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5FA-86FB-495A-A102-4CCFCEB1F41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Develop the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AVS/Express 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&amp;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AVS5 Module Repositori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anage the IAC Web Site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lected Research Projects on behalf of AVS Inc.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upport User Group Activities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articipate in AVS Product 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&amp;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Solution Testing 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&amp; QA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www.iavsc.org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26" name="iac_logo" descr=""/>
          <p:cNvPicPr/>
          <p:nvPr/>
        </p:nvPicPr>
        <p:blipFill>
          <a:blip r:embed="rId1"/>
          <a:stretch/>
        </p:blipFill>
        <p:spPr>
          <a:xfrm>
            <a:off x="6248520" y="4545000"/>
            <a:ext cx="2427120" cy="1627200"/>
          </a:xfrm>
          <a:prstGeom prst="rect">
            <a:avLst/>
          </a:prstGeom>
          <a:ln w="0">
            <a:noFill/>
          </a:ln>
        </p:spPr>
      </p:pic>
      <p:pic>
        <p:nvPicPr>
          <p:cNvPr id="227" name="iac_banner" descr=""/>
          <p:cNvPicPr/>
          <p:nvPr/>
        </p:nvPicPr>
        <p:blipFill>
          <a:blip r:embed="rId2"/>
          <a:stretch/>
        </p:blipFill>
        <p:spPr>
          <a:xfrm>
            <a:off x="1057320" y="457200"/>
            <a:ext cx="7029360" cy="49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11CB-BC30-41CB-901A-725B0BB2B1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99"/>
                </a:solidFill>
                <a:latin typeface="Tahoma"/>
              </a:rPr>
              <a:t>Manchester Research Centre for Computational Science (MRCCS)</a:t>
            </a:r>
            <a:endParaRPr b="1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Focus for HPC activities throughout the University of Manchest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Computational Chemistry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Centre for Novel Computing (Computer Science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anchester Computing: Manchester Visualization Centre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anchester Computing: CSAR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School of Engineering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oordinated research programm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ummer Schoo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ummer Scholarship programm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minars (with live broadcast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E65F-4DBC-4FB0-BD55-FC4877FCF3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y Mummy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231" name="mummy2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6676920"/>
          </a:xfrm>
          <a:prstGeom prst="rect">
            <a:avLst/>
          </a:prstGeom>
          <a:ln w="0">
            <a:noFill/>
          </a:ln>
        </p:spPr>
      </p:pic>
      <p:pic>
        <p:nvPicPr>
          <p:cNvPr id="232" name="jamie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6291360" cy="419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6E77-6DAB-4640-94BA-61802A38191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234" name="mask_crop" descr=""/>
          <p:cNvPicPr/>
          <p:nvPr/>
        </p:nvPicPr>
        <p:blipFill>
          <a:blip r:embed="rId1"/>
          <a:stretch/>
        </p:blipFill>
        <p:spPr>
          <a:xfrm>
            <a:off x="0" y="0"/>
            <a:ext cx="4753080" cy="3971880"/>
          </a:xfrm>
          <a:prstGeom prst="rect">
            <a:avLst/>
          </a:prstGeom>
          <a:ln w="0">
            <a:noFill/>
          </a:ln>
        </p:spPr>
      </p:pic>
      <p:pic>
        <p:nvPicPr>
          <p:cNvPr id="235" name="head2_crop1" descr=""/>
          <p:cNvPicPr/>
          <p:nvPr/>
        </p:nvPicPr>
        <p:blipFill>
          <a:blip r:embed="rId2"/>
          <a:stretch/>
        </p:blipFill>
        <p:spPr>
          <a:xfrm>
            <a:off x="4448160" y="1981080"/>
            <a:ext cx="4695840" cy="39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6503-B291-49B6-946B-A2287C0A68C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8480" cy="31878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648320" y="38088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4800600" y="360036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ECA2-AD83-4545-8392-F7818A33232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Seismic Tomography &amp; Convection Modelling of the Earth’s Mantl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with the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University of Liverpool 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Their Problem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Simulations run on 512 PEs of Cray T3E for up to 12 hours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Four main problem areas: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Modelling this thick spherical shell.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Visualizing it in 3D.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Resource restrictions.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Their etho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A81E-129D-4885-BC43-A82A220AFF4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Real Author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Jo Leng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John Brook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aul Lev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104" name="id_lever" descr=""/>
          <p:cNvPicPr/>
          <p:nvPr/>
        </p:nvPicPr>
        <p:blipFill>
          <a:blip r:embed="rId1"/>
          <a:stretch/>
        </p:blipFill>
        <p:spPr>
          <a:xfrm>
            <a:off x="2743200" y="4876920"/>
            <a:ext cx="1428840" cy="1279440"/>
          </a:xfrm>
          <a:prstGeom prst="rect">
            <a:avLst/>
          </a:prstGeom>
          <a:ln w="0">
            <a:noFill/>
          </a:ln>
        </p:spPr>
      </p:pic>
      <p:pic>
        <p:nvPicPr>
          <p:cNvPr id="105" name="JohnBrooke" descr=""/>
          <p:cNvPicPr/>
          <p:nvPr/>
        </p:nvPicPr>
        <p:blipFill>
          <a:blip r:embed="rId2"/>
          <a:stretch/>
        </p:blipFill>
        <p:spPr>
          <a:xfrm>
            <a:off x="4800600" y="3276720"/>
            <a:ext cx="1247760" cy="1447560"/>
          </a:xfrm>
          <a:prstGeom prst="rect">
            <a:avLst/>
          </a:prstGeom>
          <a:ln w="0">
            <a:noFill/>
          </a:ln>
        </p:spPr>
      </p:pic>
      <p:pic>
        <p:nvPicPr>
          <p:cNvPr id="106" name="jo" descr=""/>
          <p:cNvPicPr/>
          <p:nvPr/>
        </p:nvPicPr>
        <p:blipFill>
          <a:blip r:embed="rId3"/>
          <a:stretch/>
        </p:blipFill>
        <p:spPr>
          <a:xfrm>
            <a:off x="2438280" y="2057400"/>
            <a:ext cx="1198800" cy="1371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5800" y="1905120"/>
            <a:ext cx="3124080" cy="175248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3124080"/>
            <a:ext cx="3276360" cy="175284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648320"/>
            <a:ext cx="3581280" cy="160020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5BD9-5E3A-4D4E-A89E-0CC58D3FEB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Modelling the shell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inversion of the data dates back to the 1930’s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Variations dominate radially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make the model 1D (depth is the main factor).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Historically analyse the data by 2D projection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Academic peers now want more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46" name="old_2D_tomo2" descr=""/>
          <p:cNvPicPr/>
          <p:nvPr/>
        </p:nvPicPr>
        <p:blipFill>
          <a:blip r:embed="rId1"/>
          <a:stretch/>
        </p:blipFill>
        <p:spPr>
          <a:xfrm>
            <a:off x="1714680" y="4114800"/>
            <a:ext cx="5715000" cy="19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F1B-FBA6-4128-A244-A22984F9CA6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3D Visualization of a Thick Spherical Shell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49" name="iso" descr=""/>
          <p:cNvPicPr/>
          <p:nvPr/>
        </p:nvPicPr>
        <p:blipFill>
          <a:blip r:embed="rId1"/>
          <a:stretch/>
        </p:blipFill>
        <p:spPr>
          <a:xfrm>
            <a:off x="380880" y="1847880"/>
            <a:ext cx="3962520" cy="3162240"/>
          </a:xfrm>
          <a:prstGeom prst="rect">
            <a:avLst/>
          </a:prstGeom>
          <a:ln w="0">
            <a:noFill/>
          </a:ln>
        </p:spPr>
      </p:pic>
      <p:pic>
        <p:nvPicPr>
          <p:cNvPr id="250" name="seg" descr=""/>
          <p:cNvPicPr/>
          <p:nvPr/>
        </p:nvPicPr>
        <p:blipFill>
          <a:blip r:embed="rId2"/>
          <a:stretch/>
        </p:blipFill>
        <p:spPr>
          <a:xfrm>
            <a:off x="4876920" y="3352680"/>
            <a:ext cx="3646440" cy="272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7C48-4AFA-452D-8A7C-8388E1D1731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Special Challenges/Problem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Renderers only handle straight lines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spherical data must be resampled.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Large data sets benefit from special data reduction/handling techniques.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Reference information allows surface features to be related to internal ones.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Shell is thick &amp; close to centre of the sphere, angular component is important.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Perceptual factors make orientation, perspective and colour difficult to interpret.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Depth was not before a visual factor, originally 2D projections were used. 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New normalisation is needed.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Cut planes are also 2D.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Internal data may be self obscuring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0885-F98C-455C-A39C-3B4E158322F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Resample the poles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Resample the other latitude bands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55" name="tomo_cells1" descr=""/>
          <p:cNvPicPr/>
          <p:nvPr/>
        </p:nvPicPr>
        <p:blipFill>
          <a:blip r:embed="rId1"/>
          <a:srcRect l="0" t="6924" r="0" b="5696"/>
          <a:stretch/>
        </p:blipFill>
        <p:spPr>
          <a:xfrm>
            <a:off x="4724280" y="4362480"/>
            <a:ext cx="4419720" cy="2495520"/>
          </a:xfrm>
          <a:prstGeom prst="rect">
            <a:avLst/>
          </a:prstGeom>
          <a:ln w="0">
            <a:noFill/>
          </a:ln>
        </p:spPr>
      </p:pic>
      <p:pic>
        <p:nvPicPr>
          <p:cNvPr id="256" name="incidentala" descr=""/>
          <p:cNvPicPr/>
          <p:nvPr/>
        </p:nvPicPr>
        <p:blipFill>
          <a:blip r:embed="rId2"/>
          <a:stretch/>
        </p:blipFill>
        <p:spPr>
          <a:xfrm>
            <a:off x="0" y="3863880"/>
            <a:ext cx="2705040" cy="299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1C21-C259-45D3-B54F-079044488D9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Display and data reduction issue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Resampled data set is 3 to 4 x size of the original one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No longer interactive.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Difficult to see the extents of the data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59" name="pic2.1" descr=""/>
          <p:cNvPicPr/>
          <p:nvPr/>
        </p:nvPicPr>
        <p:blipFill>
          <a:blip r:embed="rId1"/>
          <a:stretch/>
        </p:blipFill>
        <p:spPr>
          <a:xfrm>
            <a:off x="6095880" y="3429000"/>
            <a:ext cx="2590920" cy="2819520"/>
          </a:xfrm>
          <a:prstGeom prst="rect">
            <a:avLst/>
          </a:prstGeom>
          <a:ln w="0">
            <a:noFill/>
          </a:ln>
        </p:spPr>
      </p:pic>
      <p:pic>
        <p:nvPicPr>
          <p:cNvPr id="260" name="pic2.2" descr=""/>
          <p:cNvPicPr/>
          <p:nvPr/>
        </p:nvPicPr>
        <p:blipFill>
          <a:blip r:embed="rId2"/>
          <a:stretch/>
        </p:blipFill>
        <p:spPr>
          <a:xfrm>
            <a:off x="2166840" y="3429000"/>
            <a:ext cx="2405160" cy="28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7FEE-78D0-45E2-B9D6-7BFB30F313E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Reference Data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omography data of the Earth’s mantle is strongly related to other information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Volcanic” hotspot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Tectonic plate boundarie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Coastline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pseudo-colour is the standard one for the field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Data can be normalised to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Make the variation in the inner most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layers as prominent as the outer most.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263" name="norm_cut" descr=""/>
          <p:cNvPicPr/>
          <p:nvPr/>
        </p:nvPicPr>
        <p:blipFill>
          <a:blip r:embed="rId1"/>
          <a:stretch/>
        </p:blipFill>
        <p:spPr>
          <a:xfrm>
            <a:off x="5943600" y="4303800"/>
            <a:ext cx="3200400" cy="2554200"/>
          </a:xfrm>
          <a:prstGeom prst="rect">
            <a:avLst/>
          </a:prstGeom>
          <a:ln w="0">
            <a:noFill/>
          </a:ln>
        </p:spPr>
      </p:pic>
      <p:pic>
        <p:nvPicPr>
          <p:cNvPr id="264" name="not_norm_cut" descr=""/>
          <p:cNvPicPr/>
          <p:nvPr/>
        </p:nvPicPr>
        <p:blipFill>
          <a:blip r:embed="rId2"/>
          <a:srcRect l="4134" t="0" r="4134" b="0"/>
          <a:stretch/>
        </p:blipFill>
        <p:spPr>
          <a:xfrm>
            <a:off x="6905520" y="2209680"/>
            <a:ext cx="2238480" cy="19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3BF1-336B-498E-853B-05ABDF0DF72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Tahoma"/>
              </a:rPr>
              <a:t>VIPAR: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n Environment for Generating Parallel Modules in AVS/Expres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odular Visualization Environments (MVEs)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exist for building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visualization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pplications: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68" name="vipar-ov-1-image-1" descr=""/>
          <p:cNvPicPr/>
          <p:nvPr/>
        </p:nvPicPr>
        <p:blipFill>
          <a:blip r:embed="rId1"/>
          <a:stretch/>
        </p:blipFill>
        <p:spPr>
          <a:xfrm>
            <a:off x="3633840" y="2387520"/>
            <a:ext cx="5510160" cy="447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1873-D98F-4AC6-B908-E590D554E21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Building an Application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ata-flow/Event-flow paradigm for execution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ata passes through the network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odules are the compute nodes which process/transform the data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Integrate application code by writing new modul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71" name=""/>
          <p:cNvSpPr/>
          <p:nvPr/>
        </p:nvSpPr>
        <p:spPr>
          <a:xfrm>
            <a:off x="7872840" y="4191120"/>
            <a:ext cx="1154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D data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1280" y="4191120"/>
            <a:ext cx="3556440" cy="2025000"/>
            <a:chOff x="4571280" y="4191120"/>
            <a:chExt cx="3556440" cy="2025000"/>
          </a:xfrm>
        </p:grpSpPr>
        <p:sp>
          <p:nvSpPr>
            <p:cNvPr id="273" name=""/>
            <p:cNvSpPr/>
            <p:nvPr/>
          </p:nvSpPr>
          <p:spPr>
            <a:xfrm>
              <a:off x="5932440" y="46083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24"/>
                  </a:moveTo>
                  <a:lnTo>
                    <a:pt x="24" y="24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16" y="24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68720" y="4633560"/>
              <a:ext cx="152640" cy="266400"/>
            </a:xfrm>
            <a:custGeom>
              <a:avLst/>
              <a:gdLst/>
              <a:ahLst/>
              <a:rect l="l" t="t" r="r" b="b"/>
              <a:pathLst>
                <a:path w="96" h="168">
                  <a:moveTo>
                    <a:pt x="56" y="0"/>
                  </a:move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56" y="144"/>
                  </a:lnTo>
                  <a:lnTo>
                    <a:pt x="56" y="168"/>
                  </a:lnTo>
                  <a:lnTo>
                    <a:pt x="48" y="1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6" y="144"/>
                  </a:lnTo>
                  <a:lnTo>
                    <a:pt x="48" y="144"/>
                  </a:lnTo>
                  <a:lnTo>
                    <a:pt x="48" y="144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96" y="8"/>
                  </a:lnTo>
                  <a:lnTo>
                    <a:pt x="56" y="8"/>
                  </a:lnTo>
                  <a:lnTo>
                    <a:pt x="56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81680" y="4633560"/>
              <a:ext cx="75960" cy="126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0" y="0"/>
                  </a:moveTo>
                  <a:lnTo>
                    <a:pt x="48" y="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81680" y="4633560"/>
              <a:ext cx="139680" cy="228240"/>
            </a:xfrm>
            <a:custGeom>
              <a:avLst/>
              <a:gdLst/>
              <a:ahLst/>
              <a:rect l="l" t="t" r="r" b="b"/>
              <a:pathLst>
                <a:path w="88" h="144">
                  <a:moveTo>
                    <a:pt x="48" y="0"/>
                  </a:moveTo>
                  <a:lnTo>
                    <a:pt x="88" y="0"/>
                  </a:lnTo>
                  <a:lnTo>
                    <a:pt x="48" y="144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45040" y="4191120"/>
              <a:ext cx="38160" cy="12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45040" y="4633560"/>
              <a:ext cx="38160" cy="12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45040" y="4203360"/>
              <a:ext cx="38160" cy="4298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05560" y="460836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24"/>
                  </a:moveTo>
                  <a:lnTo>
                    <a:pt x="24" y="24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16" y="24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41840" y="4633560"/>
              <a:ext cx="152640" cy="266400"/>
            </a:xfrm>
            <a:custGeom>
              <a:avLst/>
              <a:gdLst/>
              <a:ahLst/>
              <a:rect l="l" t="t" r="r" b="b"/>
              <a:pathLst>
                <a:path w="96" h="168">
                  <a:moveTo>
                    <a:pt x="56" y="0"/>
                  </a:move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56" y="144"/>
                  </a:lnTo>
                  <a:lnTo>
                    <a:pt x="56" y="168"/>
                  </a:lnTo>
                  <a:lnTo>
                    <a:pt x="48" y="1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6" y="144"/>
                  </a:lnTo>
                  <a:lnTo>
                    <a:pt x="48" y="144"/>
                  </a:lnTo>
                  <a:lnTo>
                    <a:pt x="48" y="144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96" y="8"/>
                  </a:lnTo>
                  <a:lnTo>
                    <a:pt x="56" y="8"/>
                  </a:lnTo>
                  <a:lnTo>
                    <a:pt x="56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54440" y="4633560"/>
              <a:ext cx="76320" cy="126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0" y="0"/>
                  </a:moveTo>
                  <a:lnTo>
                    <a:pt x="48" y="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54440" y="4633560"/>
              <a:ext cx="140040" cy="228240"/>
            </a:xfrm>
            <a:custGeom>
              <a:avLst/>
              <a:gdLst/>
              <a:ahLst/>
              <a:rect l="l" t="t" r="r" b="b"/>
              <a:pathLst>
                <a:path w="88" h="144">
                  <a:moveTo>
                    <a:pt x="48" y="0"/>
                  </a:moveTo>
                  <a:lnTo>
                    <a:pt x="88" y="0"/>
                  </a:lnTo>
                  <a:lnTo>
                    <a:pt x="48" y="144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18160" y="4191120"/>
              <a:ext cx="38160" cy="122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8160" y="4633560"/>
              <a:ext cx="38160" cy="1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18160" y="4203360"/>
              <a:ext cx="38160" cy="429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713360" y="46083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24"/>
                  </a:moveTo>
                  <a:lnTo>
                    <a:pt x="16" y="24"/>
                  </a:lnTo>
                  <a:lnTo>
                    <a:pt x="24" y="16"/>
                  </a:lnTo>
                  <a:lnTo>
                    <a:pt x="16" y="8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50000" y="4633560"/>
              <a:ext cx="139680" cy="279000"/>
            </a:xfrm>
            <a:custGeom>
              <a:avLst/>
              <a:gdLst/>
              <a:ahLst/>
              <a:rect l="l" t="t" r="r" b="b"/>
              <a:pathLst>
                <a:path w="88" h="176">
                  <a:moveTo>
                    <a:pt x="48" y="0"/>
                  </a:move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48" y="144"/>
                  </a:lnTo>
                  <a:lnTo>
                    <a:pt x="48" y="176"/>
                  </a:lnTo>
                  <a:lnTo>
                    <a:pt x="40" y="1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8" y="144"/>
                  </a:lnTo>
                  <a:lnTo>
                    <a:pt x="40" y="144"/>
                  </a:lnTo>
                  <a:lnTo>
                    <a:pt x="40" y="144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88" y="8"/>
                  </a:lnTo>
                  <a:lnTo>
                    <a:pt x="48" y="8"/>
                  </a:lnTo>
                  <a:lnTo>
                    <a:pt x="48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62600" y="4633560"/>
              <a:ext cx="63720" cy="12600"/>
            </a:xfrm>
            <a:custGeom>
              <a:avLst/>
              <a:gdLst/>
              <a:ahLst/>
              <a:rect l="l" t="t" r="r" b="b"/>
              <a:pathLst>
                <a:path w="40" h="8">
                  <a:moveTo>
                    <a:pt x="0" y="0"/>
                  </a:move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62600" y="4633560"/>
              <a:ext cx="127080" cy="228240"/>
            </a:xfrm>
            <a:custGeom>
              <a:avLst/>
              <a:gdLst/>
              <a:ahLst/>
              <a:rect l="l" t="t" r="r" b="b"/>
              <a:pathLst>
                <a:path w="80" h="144">
                  <a:moveTo>
                    <a:pt x="40" y="0"/>
                  </a:moveTo>
                  <a:lnTo>
                    <a:pt x="80" y="0"/>
                  </a:lnTo>
                  <a:lnTo>
                    <a:pt x="40" y="144"/>
                  </a:lnTo>
                  <a:lnTo>
                    <a:pt x="0" y="0"/>
                  </a:lnTo>
                  <a:lnTo>
                    <a:pt x="40" y="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13360" y="4191120"/>
              <a:ext cx="38160" cy="1224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13360" y="4633560"/>
              <a:ext cx="38160" cy="126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13360" y="4203360"/>
              <a:ext cx="38160" cy="42984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40240" y="46083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24"/>
                  </a:moveTo>
                  <a:lnTo>
                    <a:pt x="16" y="24"/>
                  </a:lnTo>
                  <a:lnTo>
                    <a:pt x="24" y="16"/>
                  </a:lnTo>
                  <a:lnTo>
                    <a:pt x="16" y="8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76880" y="4633560"/>
              <a:ext cx="139680" cy="279000"/>
            </a:xfrm>
            <a:custGeom>
              <a:avLst/>
              <a:gdLst/>
              <a:ahLst/>
              <a:rect l="l" t="t" r="r" b="b"/>
              <a:pathLst>
                <a:path w="88" h="176">
                  <a:moveTo>
                    <a:pt x="48" y="0"/>
                  </a:move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48" y="144"/>
                  </a:lnTo>
                  <a:lnTo>
                    <a:pt x="48" y="176"/>
                  </a:lnTo>
                  <a:lnTo>
                    <a:pt x="40" y="1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8" y="144"/>
                  </a:lnTo>
                  <a:lnTo>
                    <a:pt x="40" y="144"/>
                  </a:lnTo>
                  <a:lnTo>
                    <a:pt x="40" y="144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88" y="8"/>
                  </a:lnTo>
                  <a:lnTo>
                    <a:pt x="48" y="8"/>
                  </a:lnTo>
                  <a:lnTo>
                    <a:pt x="48" y="0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9480" y="4633560"/>
              <a:ext cx="63720" cy="12600"/>
            </a:xfrm>
            <a:custGeom>
              <a:avLst/>
              <a:gdLst/>
              <a:ahLst/>
              <a:rect l="l" t="t" r="r" b="b"/>
              <a:pathLst>
                <a:path w="40" h="8">
                  <a:moveTo>
                    <a:pt x="0" y="0"/>
                  </a:move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89480" y="4633560"/>
              <a:ext cx="127080" cy="228240"/>
            </a:xfrm>
            <a:custGeom>
              <a:avLst/>
              <a:gdLst/>
              <a:ahLst/>
              <a:rect l="l" t="t" r="r" b="b"/>
              <a:pathLst>
                <a:path w="80" h="144">
                  <a:moveTo>
                    <a:pt x="40" y="0"/>
                  </a:moveTo>
                  <a:lnTo>
                    <a:pt x="80" y="0"/>
                  </a:lnTo>
                  <a:lnTo>
                    <a:pt x="40" y="144"/>
                  </a:lnTo>
                  <a:lnTo>
                    <a:pt x="0" y="0"/>
                  </a:lnTo>
                  <a:lnTo>
                    <a:pt x="40" y="0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40240" y="4191120"/>
              <a:ext cx="38160" cy="1224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40240" y="4633560"/>
              <a:ext cx="38160" cy="126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40240" y="4203360"/>
              <a:ext cx="38160" cy="42984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35880" y="592596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24"/>
                  </a:moveTo>
                  <a:lnTo>
                    <a:pt x="24" y="16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24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72160" y="5951160"/>
              <a:ext cx="152280" cy="264960"/>
            </a:xfrm>
            <a:custGeom>
              <a:avLst/>
              <a:gdLst/>
              <a:ahLst/>
              <a:rect l="l" t="t" r="r" b="b"/>
              <a:pathLst>
                <a:path w="96" h="167">
                  <a:moveTo>
                    <a:pt x="56" y="0"/>
                  </a:move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56" y="143"/>
                  </a:lnTo>
                  <a:lnTo>
                    <a:pt x="56" y="167"/>
                  </a:lnTo>
                  <a:lnTo>
                    <a:pt x="48" y="143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6" y="143"/>
                  </a:lnTo>
                  <a:lnTo>
                    <a:pt x="48" y="143"/>
                  </a:lnTo>
                  <a:lnTo>
                    <a:pt x="48" y="143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96" y="8"/>
                  </a:lnTo>
                  <a:lnTo>
                    <a:pt x="56" y="8"/>
                  </a:lnTo>
                  <a:lnTo>
                    <a:pt x="56" y="0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484760" y="5951160"/>
              <a:ext cx="76320" cy="126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0" y="0"/>
                  </a:moveTo>
                  <a:lnTo>
                    <a:pt x="48" y="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84760" y="5951160"/>
              <a:ext cx="139680" cy="226800"/>
            </a:xfrm>
            <a:custGeom>
              <a:avLst/>
              <a:gdLst/>
              <a:ahLst/>
              <a:rect l="l" t="t" r="r" b="b"/>
              <a:pathLst>
                <a:path w="88" h="143">
                  <a:moveTo>
                    <a:pt x="48" y="0"/>
                  </a:moveTo>
                  <a:lnTo>
                    <a:pt x="88" y="0"/>
                  </a:lnTo>
                  <a:lnTo>
                    <a:pt x="48" y="143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48480" y="5506920"/>
              <a:ext cx="38160" cy="1224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48480" y="5938560"/>
              <a:ext cx="38160" cy="1224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48480" y="5519520"/>
              <a:ext cx="38160" cy="41868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71280" y="4228920"/>
              <a:ext cx="120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lourm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36720" y="5633640"/>
              <a:ext cx="186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ometric 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37800" y="5862240"/>
              <a:ext cx="1420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streamlin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1" name="vipar-ov-1-image-2" descr=""/>
            <p:cNvPicPr/>
            <p:nvPr/>
          </p:nvPicPr>
          <p:blipFill>
            <a:blip r:embed="rId36"/>
            <a:srcRect l="23149" t="33820" r="30560" b="32403"/>
            <a:stretch/>
          </p:blipFill>
          <p:spPr>
            <a:xfrm>
              <a:off x="5689440" y="4889160"/>
              <a:ext cx="243828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67B-2310-4579-9663-FA33EB409F4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VS/Express Architectur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ll modules controlled by Object Manag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bject Manager single threaded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rial Module Execution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Viewer - 3D Scene,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arallel graphics in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VS/Express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Multi-Pipe Edition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for Virtual Reality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14" name="PIC00007a" descr=""/>
          <p:cNvPicPr/>
          <p:nvPr/>
        </p:nvPicPr>
        <p:blipFill>
          <a:blip r:embed="rId1"/>
          <a:stretch/>
        </p:blipFill>
        <p:spPr>
          <a:xfrm>
            <a:off x="4343400" y="281952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4089-511B-4FB0-AFC6-4D52AD95C07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University of Manchester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Established 1851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ne of the largest in the UK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Student number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Research Income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…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ne of the best in the UK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Research quality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Graduates getting job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Teaching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112" name="74" descr=""/>
          <p:cNvPicPr/>
          <p:nvPr/>
        </p:nvPicPr>
        <p:blipFill>
          <a:blip r:embed="rId1"/>
          <a:stretch/>
        </p:blipFill>
        <p:spPr>
          <a:xfrm>
            <a:off x="4267080" y="3708360"/>
            <a:ext cx="4876920" cy="3149640"/>
          </a:xfrm>
          <a:prstGeom prst="rect">
            <a:avLst/>
          </a:prstGeom>
          <a:ln w="0">
            <a:noFill/>
          </a:ln>
        </p:spPr>
      </p:pic>
      <p:pic>
        <p:nvPicPr>
          <p:cNvPr id="113" name="71" descr=""/>
          <p:cNvPicPr/>
          <p:nvPr/>
        </p:nvPicPr>
        <p:blipFill>
          <a:blip r:embed="rId2"/>
          <a:stretch/>
        </p:blipFill>
        <p:spPr>
          <a:xfrm>
            <a:off x="5740560" y="0"/>
            <a:ext cx="340344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0EBF-4521-46BA-9B98-DD5B48CB5A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Towards parallel solution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Use of the systems has led to problems: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Bottlenecks created by highly computational modules  (blocking all others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Large datasets cannot easily fit into the memory of a single compute node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ere are a number of schemes for adding module parallelism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We will classify them into three main groups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2843-23E9-4824-B898-DAA06EFC845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1. Functional or Task Parallelism 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Each module can execute on a separate processor or machine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is is a coarse grain solution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19" name=""/>
          <p:cNvSpPr/>
          <p:nvPr/>
        </p:nvSpPr>
        <p:spPr>
          <a:xfrm>
            <a:off x="304920" y="44956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Example: AVS5 Remote Parallel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362320" y="3276720"/>
            <a:ext cx="6540480" cy="294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7E3-3049-4FC3-9BD9-6C424522951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2. Parallel Module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5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omputationally expensive modules are parallelised / vectorised.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is is a fine grain solution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79360" y="3124080"/>
            <a:ext cx="8583480" cy="353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D0A-459D-43D0-8FE6-14DFE8CA9B4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3. Parallel System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arallel modules pass data using parallel communication methods.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Fine grain but no overheads from composition / redistribution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150920" y="3414600"/>
            <a:ext cx="7993080" cy="34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BB18-38AE-4B97-81F1-42CA9F55ADB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System Architectur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160" y="49528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VPRvsi - Visualization system interface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VPRidd/dd - Data Distribution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974960" y="1963800"/>
            <a:ext cx="5194080" cy="293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B01-8654-487E-9C0C-21A8EC32CDF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Data Decomposition Tool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n interactive tool to allow the user to describe the specification of a parallel module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e specification includes: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Data decomposition strategy for input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Target platform and system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Composition of output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Neighborhood information and boundary conditions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We will take a closer look at some of the distribution schemes.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931E-C315-4365-B6DA-EAF908AD4B7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Data Decomposition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7562880" cy="19047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4724280" y="3962520"/>
            <a:ext cx="4108680" cy="20653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304920" y="4495680"/>
            <a:ext cx="182088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8D3B-B474-401A-850A-A40A1672320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Producing the tagged data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889280" y="1752480"/>
            <a:ext cx="5365440" cy="393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FB6-15C8-4EA4-A061-7EDB4FA803DF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Example Application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n example application has been developed to integrate a parallel version of marching cubes (iso-surface generation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input data is distributed in blocks (BLOCK, BLOCK, BLOCK)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Workers generate a list of triangles which form part of complete iso-surface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Harness combines surface portions into complete dataset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ome test results have been obtained...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158D-3667-471A-8A1E-038845895A3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Isosurface Application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341" name="vipar-ov-1-image-18a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782040" cy="528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E918-BA0A-463E-A5BB-B35AC852A7C6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Computing at Manchester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486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Fundamental Computer Scienc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Next slide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pplications of computing, e.g.,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olecular modelling, chemistry, engineering,…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edicine, social anthropology, ageing proces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116" name="uom_today" descr=""/>
          <p:cNvPicPr/>
          <p:nvPr/>
        </p:nvPicPr>
        <p:blipFill>
          <a:blip r:embed="rId1"/>
          <a:stretch/>
        </p:blipFill>
        <p:spPr>
          <a:xfrm>
            <a:off x="0" y="4448160"/>
            <a:ext cx="7259760" cy="24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67280" y="1981080"/>
            <a:ext cx="31244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omput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anchester Comp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10,000 computers on 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25,000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From &gt; 150 Univers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AA22-1861-44C4-8BCB-2852D37060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Examples of Isosurfac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343" name="vipar-ov-1-image-19" descr=""/>
          <p:cNvPicPr/>
          <p:nvPr/>
        </p:nvPicPr>
        <p:blipFill>
          <a:blip r:embed="rId1"/>
          <a:srcRect l="0" t="0" r="11630" b="0"/>
          <a:stretch/>
        </p:blipFill>
        <p:spPr>
          <a:xfrm>
            <a:off x="0" y="1219320"/>
            <a:ext cx="8686800" cy="54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D39A-A48D-4C7A-A18F-FF21C62F55B3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Performance - Hydrogen Data Set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345" name="vipar-ov-1-image-20a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705720" cy="498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0F15-66A3-450F-B00A-88EF6375C127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ulti-Pipe Rendering Framework for Visualization Application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523880" y="403848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1295280" y="5105520"/>
            <a:ext cx="1371600" cy="9205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2057400" y="-6480"/>
            <a:ext cx="18432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1752480" cy="5032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VS/Express Multi-Pipe Edition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Project Research Partner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dvanced Visual Systems (AVS)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-Visualization Software &amp; Solution Vendo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Kubota Graphics Technology, Inc. Partn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Graphics Technology Partner (MPU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anchester Visualisation Centre, IAC: International AVS Centre (Research Partner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838080" y="2133720"/>
            <a:ext cx="1828800" cy="79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625F-D585-4AE0-8884-31ADF347B5C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pplication Area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GeoSciences (Oil &amp; Gas)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GOCAD, GeoQuest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Medical 3D Reconstruction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DICOM Image Stacks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CFD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Plot3D, CFX, Fluent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FEA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Autodyn3D, Goodyear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GIS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Arc/Info, Oracle Spatial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Data Mining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Oracle, Informix, ODBC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57" name=""/>
          <p:cNvSpPr/>
          <p:nvPr/>
        </p:nvSpPr>
        <p:spPr>
          <a:xfrm>
            <a:off x="4648320" y="3352680"/>
            <a:ext cx="2209680" cy="1143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S/Exp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Pi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86600" y="2209680"/>
            <a:ext cx="1828800" cy="3429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Pi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yx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86600" y="38862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09880" y="1905120"/>
            <a:ext cx="685800" cy="4114800"/>
          </a:xfrm>
          <a:custGeom>
            <a:avLst/>
            <a:gdLst>
              <a:gd name="textAreaLeft" fmla="*/ 0 w 685800"/>
              <a:gd name="textAreaRight" fmla="*/ 247680 w 6858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0" y="38862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627440" y="4757760"/>
            <a:ext cx="19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B13-DC2C-4543-8B8A-3637DFCC918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Immersive Environment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AV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Reality Cent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owerWal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VisDom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…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.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65" name="trimension-rooms6" descr=""/>
          <p:cNvPicPr/>
          <p:nvPr/>
        </p:nvPicPr>
        <p:blipFill>
          <a:blip r:embed="rId1"/>
          <a:stretch/>
        </p:blipFill>
        <p:spPr>
          <a:xfrm>
            <a:off x="3657600" y="1676520"/>
            <a:ext cx="5181480" cy="37526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986280" y="5554800"/>
            <a:ext cx="44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mension Systems, 3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30C2-353E-4415-B3DC-B3E9C4FD7EB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VS/Express Rendering System 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penGL 1.1 / 1.2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High-performance data structure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2D/3D Texture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BTF Volume Rendering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Quad-buffer Stereo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High portability (Windows, UNIX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omplimentary Software renderer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(X-server, Printing, Postscript, CGM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266920" cy="201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F603-1A07-4FB1-8739-57458242782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VS Architectur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PU Renderer means no changes to application layer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72" name=""/>
          <p:cNvSpPr/>
          <p:nvPr/>
        </p:nvSpPr>
        <p:spPr>
          <a:xfrm>
            <a:off x="1474920" y="2819520"/>
            <a:ext cx="202068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50880" y="5334120"/>
            <a:ext cx="20210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GL/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13040" y="5334120"/>
            <a:ext cx="153540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FC/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94240" y="5334120"/>
            <a:ext cx="145440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/I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819440" y="5105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74960" y="2819520"/>
            <a:ext cx="17780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z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99160" y="2819520"/>
            <a:ext cx="14540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38200" y="3581280"/>
            <a:ext cx="266724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eld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00200" y="4419720"/>
            <a:ext cx="51721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62400" y="3581280"/>
            <a:ext cx="258624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62240" y="2514600"/>
            <a:ext cx="609588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362240" y="5257800"/>
            <a:ext cx="60958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38680" y="3309840"/>
            <a:ext cx="7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90160" y="536724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828800" y="4987800"/>
            <a:ext cx="2225520" cy="1870200"/>
            <a:chOff x="1828800" y="4987800"/>
            <a:chExt cx="2225520" cy="1870200"/>
          </a:xfrm>
        </p:grpSpPr>
        <p:sp>
          <p:nvSpPr>
            <p:cNvPr id="387" name=""/>
            <p:cNvSpPr/>
            <p:nvPr/>
          </p:nvSpPr>
          <p:spPr>
            <a:xfrm>
              <a:off x="2225520" y="4987800"/>
              <a:ext cx="1828800" cy="1447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28800" y="6400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0811-51A3-4789-B48E-DBB44F38FA4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VS Viewer Structur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58208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akes Advantage of Virtual Renderer Structur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1600200"/>
            <a:ext cx="17524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z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286000"/>
            <a:ext cx="17524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eld 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2971800"/>
            <a:ext cx="175248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D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581280"/>
            <a:ext cx="22860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05320" y="1523880"/>
            <a:ext cx="19810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ewer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05320" y="2209680"/>
            <a:ext cx="2057400" cy="1600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ene Tr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m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05320" y="4038480"/>
            <a:ext cx="2057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43600" y="1600200"/>
            <a:ext cx="25146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Rend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43600" y="2438280"/>
            <a:ext cx="251460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pendent set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ri-strip, norma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43600" y="3581280"/>
            <a:ext cx="25146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GL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19280" y="47926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GL/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162920" y="41911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1676520" cy="144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04" name=""/>
          <p:cNvSpPr/>
          <p:nvPr/>
        </p:nvSpPr>
        <p:spPr>
          <a:xfrm>
            <a:off x="3505320" y="4952880"/>
            <a:ext cx="22096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43828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971800" y="190512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19051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23880" y="10666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62720" y="44956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5790960" y="198108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91320" y="1981080"/>
            <a:ext cx="0" cy="2514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6705720" y="5257800"/>
            <a:ext cx="106668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457200" y="1447920"/>
            <a:ext cx="8229600" cy="4944960"/>
            <a:chOff x="457200" y="1447920"/>
            <a:chExt cx="8229600" cy="4944960"/>
          </a:xfrm>
        </p:grpSpPr>
        <p:sp>
          <p:nvSpPr>
            <p:cNvPr id="414" name=""/>
            <p:cNvSpPr/>
            <p:nvPr/>
          </p:nvSpPr>
          <p:spPr>
            <a:xfrm>
              <a:off x="5791320" y="1447920"/>
              <a:ext cx="2895480" cy="42670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7200" y="5935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DBE1-09D9-4E30-8819-8EBCD5BE1F3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ulti-Pipe Utility (MPU)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e SGI Multi-pipe Utility (MPU) is a multi-pipe programming interface for OpenGL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Key features :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Flexible pipe, window and channel configuration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Easy integration in OpenGL application framework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Inherent support for Stereo and Head Motion Tracking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Transparent parallelization of rendering processe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5943600" y="4578480"/>
            <a:ext cx="3200400" cy="22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7325-63CD-4A11-A3B3-DE105E08465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anchester Computer Innovation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World firsts: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Stored program 1948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Commercial computer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Index register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Virtual Memory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Dataflow machine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120" name="mark1" descr=""/>
          <p:cNvPicPr/>
          <p:nvPr/>
        </p:nvPicPr>
        <p:blipFill>
          <a:blip r:embed="rId1"/>
          <a:stretch/>
        </p:blipFill>
        <p:spPr>
          <a:xfrm>
            <a:off x="3200400" y="3402000"/>
            <a:ext cx="5943600" cy="27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8054-C9F6-40ED-8F67-53CC213B63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PU Key Benefit for AV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SCII configuration file format, the MPU provides run-time portability of OpenGL-based applications between single-user and large-scale environments such as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CAVE Environments (4/5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RealityCenter Curved Screen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PowerWall, HoloDesk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ImmersaDesk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ingle Executable Deployment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21" name="mpu_fig1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62728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6BFD-FCB4-4029-A484-E71F31F7321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PU external camera config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ultiple Display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hannels for Single Scen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ingle Executable Application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24" name="mpu-snapshot" descr=""/>
          <p:cNvPicPr/>
          <p:nvPr/>
        </p:nvPicPr>
        <p:blipFill>
          <a:blip r:embed="rId1"/>
          <a:stretch/>
        </p:blipFill>
        <p:spPr>
          <a:xfrm>
            <a:off x="4257720" y="2057400"/>
            <a:ext cx="4886280" cy="4062240"/>
          </a:xfrm>
          <a:prstGeom prst="rect">
            <a:avLst/>
          </a:prstGeom>
          <a:ln w="0">
            <a:noFill/>
          </a:ln>
        </p:spPr>
      </p:pic>
      <p:pic>
        <p:nvPicPr>
          <p:cNvPr id="425" name="mpu_fig2" descr=""/>
          <p:cNvPicPr/>
          <p:nvPr/>
        </p:nvPicPr>
        <p:blipFill>
          <a:blip r:embed="rId2"/>
          <a:stretch/>
        </p:blipFill>
        <p:spPr>
          <a:xfrm>
            <a:off x="0" y="4589640"/>
            <a:ext cx="2590920" cy="226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BD51-2158-482E-B9FB-CB446DB37F2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VS/Express View-Renderer Menu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art of View attribut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inimal UI chang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ynamic switching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in/out of MPU mod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imple Menu contro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28" name="mpu-view-menu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4724640" cy="24987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905120" y="3809880"/>
            <a:ext cx="236196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E593-5EFF-4137-B3F9-F6CD180D26B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XP/MPU in 4-wall CAV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VS/Express Multi-Pipe Edition Tria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4-Wall CAVE configuration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tereo Display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Kikkawa-san &amp; Miyachi-san of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KGT Inc., pictured in CAVE at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NISSHO Electronics, Tokyo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32" name="jpcave-small" descr=""/>
          <p:cNvPicPr/>
          <p:nvPr/>
        </p:nvPicPr>
        <p:blipFill>
          <a:blip r:embed="rId1"/>
          <a:stretch/>
        </p:blipFill>
        <p:spPr>
          <a:xfrm>
            <a:off x="5549760" y="1004760"/>
            <a:ext cx="3594240" cy="585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71E-43DB-4F1C-A48E-A87E0FD48AB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Probing the universe via an intercontinental cluster of T3E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Searching for Pulsar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35" name="meta_sc99%20copy" descr=""/>
          <p:cNvPicPr/>
          <p:nvPr/>
        </p:nvPicPr>
        <p:blipFill>
          <a:blip r:embed="rId1"/>
          <a:srcRect l="3594" t="22413" r="5610" b="47646"/>
          <a:stretch/>
        </p:blipFill>
        <p:spPr>
          <a:xfrm>
            <a:off x="1143000" y="3276720"/>
            <a:ext cx="6858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Metacomputing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437" name="sc99topology" descr=""/>
          <p:cNvPicPr/>
          <p:nvPr/>
        </p:nvPicPr>
        <p:blipFill>
          <a:blip r:embed="rId1"/>
          <a:stretch/>
        </p:blipFill>
        <p:spPr>
          <a:xfrm>
            <a:off x="0" y="266760"/>
            <a:ext cx="9120240" cy="659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38FA-B6D4-4A9D-A4A2-BAB7536D5E77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The logistics are formidabl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M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chines are busy production machines.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S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ystem administrators make the machines available manually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e experiments were run at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14:00 in Portland Oregon.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16:00 in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Pittsburgh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07:00 in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Tsukuba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23:00 in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Manchester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Midnight in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Stuttgart it is midnight.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harm and tact were required!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EC88-5D1C-4B8F-9B70-034DD5B892F2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nd there’s the networking!!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It took two weeks and over a  hundred emails to set up the Manchester-Stuttgart PVC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HLRS 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&amp;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Pittsburgh staff 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t up the transatlantic PVC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UKERNA tried to get a PVC from Manchester to Pittsburgh but it was held up by problems in the US. It finally became available the day after the final experiment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A02E-F296-479C-8317-5DF2AE9087C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Data handling and transmission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All 10 Gigabytes of input data initially reside on the Manchester T3E. 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R</a:t>
            </a: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epresents </a:t>
            </a: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approximately </a:t>
            </a: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one hour of observations of the globular cluster M80.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Processors on all hosts, both local and remote, are enlisted 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During the run, huge volumes of data are transferred across the network to remote processors. 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U</a:t>
            </a: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se</a:t>
            </a: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 just enough remote processors to saturate the available bandwidth.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At the end of the run, multiple transformed time series are sent back by FTP for post-processing in Manchester.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DE62-44F7-4DA5-ACA4-FAB7821DC80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What advantages would this bring?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bserving time may be limited, real-time processing allows it to be used more effectively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ere may be a race to identify something new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arching algorithms can be dynamically updated in the light of post-processing results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Eliminating tapes is more elegant and saves staff time at both ends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9194-967E-453D-8EE2-58147B79626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anchester Computing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provides services to: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University of Manchest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UK Academia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Supercomputing (CSAR)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Information &amp; data services (MIMAS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ajor node in UK Academic Network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International Servic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International AVS Centre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IMA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Government, Commerce &amp; Industry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Supercomputing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ternet exchange point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Networks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Multimedia (Advanced Telematics Centre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Consultancy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R&amp;D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123" name="Ag00023_" descr=""/>
          <p:cNvPicPr/>
          <p:nvPr/>
        </p:nvPicPr>
        <p:blipFill>
          <a:blip r:embed="rId1"/>
          <a:stretch/>
        </p:blipFill>
        <p:spPr>
          <a:xfrm>
            <a:off x="6681960" y="1523880"/>
            <a:ext cx="2462040" cy="381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0472-3424-42F0-A5D1-E8AA7EF51F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So what are we trying to do?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1981080" cy="2590920"/>
          </a:xfrm>
          <a:prstGeom prst="rect">
            <a:avLst/>
          </a:prstGeom>
          <a:noFill/>
          <a:ln w="50760">
            <a:solidFill>
              <a:srgbClr val="de2037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Use it all in Real-Tim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Greater throughput of Scienc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48" name="09" descr=""/>
          <p:cNvPicPr/>
          <p:nvPr/>
        </p:nvPicPr>
        <p:blipFill>
          <a:blip r:embed="rId1"/>
          <a:stretch/>
        </p:blipFill>
        <p:spPr>
          <a:xfrm>
            <a:off x="5791320" y="4343400"/>
            <a:ext cx="3352680" cy="2146320"/>
          </a:xfrm>
          <a:prstGeom prst="rect">
            <a:avLst/>
          </a:prstGeom>
          <a:ln w="0">
            <a:noFill/>
          </a:ln>
        </p:spPr>
      </p:pic>
      <p:pic>
        <p:nvPicPr>
          <p:cNvPr id="449" name="DCP_1614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3276360" cy="2174760"/>
          </a:xfrm>
          <a:prstGeom prst="rect">
            <a:avLst/>
          </a:prstGeom>
          <a:ln w="0">
            <a:noFill/>
          </a:ln>
        </p:spPr>
      </p:pic>
      <p:pic>
        <p:nvPicPr>
          <p:cNvPr id="450" name="CrayT3E-Nicola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2266920" cy="2279520"/>
          </a:xfrm>
          <a:prstGeom prst="rect">
            <a:avLst/>
          </a:prstGeom>
          <a:ln w="0">
            <a:noFill/>
          </a:ln>
        </p:spPr>
      </p:pic>
      <p:pic>
        <p:nvPicPr>
          <p:cNvPr id="451" name="BOSSES" descr=""/>
          <p:cNvPicPr/>
          <p:nvPr/>
        </p:nvPicPr>
        <p:blipFill>
          <a:blip r:embed="rId4"/>
          <a:stretch/>
        </p:blipFill>
        <p:spPr>
          <a:xfrm>
            <a:off x="2438280" y="4433760"/>
            <a:ext cx="3233880" cy="242424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2895480" y="4419720"/>
            <a:ext cx="2210040" cy="533160"/>
          </a:xfrm>
          <a:prstGeom prst="rect">
            <a:avLst/>
          </a:prstGeom>
          <a:noFill/>
          <a:ln w="50760">
            <a:solidFill>
              <a:srgbClr val="de2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3200400"/>
            <a:ext cx="2133720" cy="13716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3E60-0202-4AA4-B681-8745E5D1A34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Finally thank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To all those at 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University of Manchester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Computing,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anchester Visualizatipn Centre, CSAR, Manchester Muse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CSC Farnborough, HLRS, 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Pittsburgh Supercomputing Center 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ETL at Tsukuba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University of Liverpool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EPSRC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KGT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SGI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AVS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To the telecommunications providers on three continents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2751-BF04-4FD1-AC55-6B6D53400E8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How to contact m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W T Hewitt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Manchester Visualization Centre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University of Manchester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Manchester M13 9PL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United Kingdom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+44 161 275 6095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+44 161 275 6800 (fax)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w.t.hewitt@man.ac.uk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http://www.man.ac.uk/MVC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http://www.csar.cfs.ac.uk 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http://www.iavsc.org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3F3-1893-4341-B8B8-CF4A5D37261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</a:rPr>
              <a:t>Building a City Infostructur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4419720"/>
            <a:ext cx="5715000" cy="1523880"/>
          </a:xfrm>
          <a:prstGeom prst="ellipse">
            <a:avLst/>
          </a:prstGeom>
          <a:solidFill>
            <a:srgbClr val="b3b9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95640" y="1182600"/>
            <a:ext cx="5079960" cy="2297160"/>
          </a:xfrm>
          <a:prstGeom prst="ellipse">
            <a:avLst/>
          </a:prstGeom>
          <a:solidFill>
            <a:srgbClr val="fe9b03"/>
          </a:solidFill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1066680"/>
            <a:ext cx="1905120" cy="472464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838080"/>
            <a:ext cx="2057400" cy="4724640"/>
          </a:xfrm>
          <a:prstGeom prst="ellipse">
            <a:avLst/>
          </a:prstGeom>
          <a:solidFill>
            <a:srgbClr val="b3b9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0000" y="571680"/>
            <a:ext cx="1236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versity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l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3556080"/>
            <a:ext cx="736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M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11840" y="3562200"/>
            <a:ext cx="14205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oyal Norther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llege of Mus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160" y="2895480"/>
            <a:ext cx="1175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62440" y="507960"/>
            <a:ext cx="2312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 Metropolit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990720"/>
            <a:ext cx="40464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58320" y="2133720"/>
            <a:ext cx="2367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anchester Educ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Network (G-M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480" y="1390680"/>
            <a:ext cx="16286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ntral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ference Libr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3320" y="990720"/>
            <a:ext cx="2048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 Town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914400"/>
            <a:ext cx="489240" cy="353880"/>
          </a:xfrm>
          <a:prstGeom prst="cube">
            <a:avLst>
              <a:gd name="adj" fmla="val 24995"/>
            </a:avLst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1219320"/>
            <a:ext cx="40464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1352520"/>
            <a:ext cx="1047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alls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id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1143000"/>
            <a:ext cx="40464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990720"/>
            <a:ext cx="40464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1066680"/>
            <a:ext cx="404640" cy="36540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3200400"/>
            <a:ext cx="40500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3276720"/>
            <a:ext cx="40464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3276720"/>
            <a:ext cx="40500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06560" y="1486080"/>
            <a:ext cx="1676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ade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6400800"/>
            <a:ext cx="3962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 Community Information Networ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11480" y="4114800"/>
            <a:ext cx="2508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 Pop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62960" y="5562720"/>
            <a:ext cx="1195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lectro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illage H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12920" y="4162320"/>
            <a:ext cx="533520" cy="609840"/>
          </a:xfrm>
          <a:prstGeom prst="cube">
            <a:avLst>
              <a:gd name="adj" fmla="val 24995"/>
            </a:avLst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67480" y="5334120"/>
            <a:ext cx="304920" cy="304560"/>
          </a:xfrm>
          <a:prstGeom prst="cube">
            <a:avLst>
              <a:gd name="adj" fmla="val 24995"/>
            </a:avLst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2400" y="5029200"/>
            <a:ext cx="304920" cy="304920"/>
          </a:xfrm>
          <a:prstGeom prst="cube">
            <a:avLst>
              <a:gd name="adj" fmla="val 24995"/>
            </a:avLst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86600" y="5486400"/>
            <a:ext cx="304920" cy="304920"/>
          </a:xfrm>
          <a:prstGeom prst="cube">
            <a:avLst>
              <a:gd name="adj" fmla="val 24995"/>
            </a:avLst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304920" y="4114800"/>
            <a:ext cx="14479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n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3505320"/>
            <a:ext cx="533160" cy="761760"/>
          </a:xfrm>
          <a:prstGeom prst="cube">
            <a:avLst>
              <a:gd name="adj" fmla="val 24995"/>
            </a:avLst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68480" y="4057560"/>
            <a:ext cx="1740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ltimedia Cen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828800" y="3962520"/>
            <a:ext cx="317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3914640"/>
            <a:ext cx="752400" cy="5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381400" y="3295800"/>
            <a:ext cx="93348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24000" y="1752480"/>
            <a:ext cx="17136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09800" y="1333440"/>
            <a:ext cx="10476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810120" y="1266840"/>
            <a:ext cx="1904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6095880" y="3286080"/>
            <a:ext cx="2095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1920" y="3552840"/>
            <a:ext cx="1236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versity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3581280"/>
            <a:ext cx="1082880" cy="54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0200" y="3429000"/>
            <a:ext cx="554040" cy="2239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43000" y="4876920"/>
            <a:ext cx="890640" cy="849240"/>
            <a:chOff x="1143000" y="4876920"/>
            <a:chExt cx="890640" cy="849240"/>
          </a:xfrm>
        </p:grpSpPr>
        <p:sp>
          <p:nvSpPr>
            <p:cNvPr id="170" name=""/>
            <p:cNvSpPr/>
            <p:nvPr/>
          </p:nvSpPr>
          <p:spPr>
            <a:xfrm>
              <a:off x="1200240" y="4876920"/>
              <a:ext cx="777960" cy="777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76320" y="5230800"/>
              <a:ext cx="157320" cy="157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35200" y="5513400"/>
              <a:ext cx="157320" cy="157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82760" y="5569200"/>
              <a:ext cx="157320" cy="156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43000" y="5343840"/>
              <a:ext cx="157320" cy="156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57400" y="4977000"/>
              <a:ext cx="156960" cy="156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523880" y="4419720"/>
            <a:ext cx="533520" cy="53316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67000" y="3987720"/>
            <a:ext cx="258480" cy="21924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76240" y="3728880"/>
            <a:ext cx="409680" cy="2239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1447920"/>
            <a:ext cx="488880" cy="35388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838080"/>
            <a:ext cx="212760" cy="58104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009800"/>
            <a:ext cx="488880" cy="37296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19680" y="1549440"/>
            <a:ext cx="2508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aching Hospi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64280" y="888840"/>
            <a:ext cx="21402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 Museu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f Science and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6160" y="5505480"/>
            <a:ext cx="890640" cy="933480"/>
            <a:chOff x="4286160" y="5505480"/>
            <a:chExt cx="890640" cy="933480"/>
          </a:xfrm>
        </p:grpSpPr>
        <p:sp>
          <p:nvSpPr>
            <p:cNvPr id="185" name=""/>
            <p:cNvSpPr/>
            <p:nvPr/>
          </p:nvSpPr>
          <p:spPr>
            <a:xfrm>
              <a:off x="4343400" y="5589720"/>
              <a:ext cx="777960" cy="777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38600" y="5505480"/>
              <a:ext cx="157320" cy="157320"/>
            </a:xfrm>
            <a:prstGeom prst="ellipse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50000" y="5632560"/>
              <a:ext cx="156960" cy="156960"/>
            </a:xfrm>
            <a:prstGeom prst="ellipse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19840" y="5943600"/>
              <a:ext cx="156960" cy="15732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78360" y="6226200"/>
              <a:ext cx="157320" cy="157320"/>
            </a:xfrm>
            <a:prstGeom prst="ellipse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25920" y="6281640"/>
              <a:ext cx="157320" cy="157320"/>
            </a:xfrm>
            <a:prstGeom prst="ellipse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86160" y="6056280"/>
              <a:ext cx="157320" cy="157320"/>
            </a:xfrm>
            <a:prstGeom prst="ellipse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00560" y="5689800"/>
              <a:ext cx="157320" cy="156960"/>
            </a:xfrm>
            <a:prstGeom prst="ellipse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945480" y="2743200"/>
            <a:ext cx="13190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anch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ultimed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603520"/>
            <a:ext cx="2286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anches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76400" y="3689280"/>
            <a:ext cx="409680" cy="26820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91000" y="4276800"/>
            <a:ext cx="405000" cy="365040"/>
          </a:xfrm>
          <a:prstGeom prst="cube">
            <a:avLst>
              <a:gd name="adj" fmla="val 24995"/>
            </a:avLst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02120" y="3492360"/>
            <a:ext cx="507960" cy="85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1752480"/>
            <a:ext cx="304920" cy="304920"/>
          </a:xfrm>
          <a:prstGeom prst="cube">
            <a:avLst>
              <a:gd name="adj" fmla="val 24995"/>
            </a:avLst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29600" y="2209680"/>
            <a:ext cx="304920" cy="304920"/>
          </a:xfrm>
          <a:prstGeom prst="cube">
            <a:avLst>
              <a:gd name="adj" fmla="val 24995"/>
            </a:avLst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7245000" y="1936800"/>
            <a:ext cx="901800" cy="203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182000" y="2400480"/>
            <a:ext cx="1047600" cy="247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64400" y="1523880"/>
            <a:ext cx="14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oston Brook Sch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24680" y="2514600"/>
            <a:ext cx="14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akwood Sch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84600" y="4610160"/>
            <a:ext cx="2508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kers Education Assoc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61520" y="5105520"/>
            <a:ext cx="339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anchester Community Networ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ABB8-E3DE-456C-9FF9-D76D9074B08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n-line access to: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ata analysis/manipulation servic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pecialist support servic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Documentation, training &amp; user support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08" name="MIMASDIG" descr=""/>
          <p:cNvPicPr/>
          <p:nvPr/>
        </p:nvPicPr>
        <p:blipFill>
          <a:blip r:embed="rId1"/>
          <a:stretch/>
        </p:blipFill>
        <p:spPr>
          <a:xfrm>
            <a:off x="371520" y="228600"/>
            <a:ext cx="877248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63FF-6075-4665-A0A8-E7D51D495C1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National HPC services continuously since 1972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Flagship supercomputer service for UK Academia &amp; Commerc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10" name="xx012" descr=""/>
          <p:cNvPicPr/>
          <p:nvPr/>
        </p:nvPicPr>
        <p:blipFill>
          <a:blip r:embed="rId1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057400" y="228600"/>
            <a:ext cx="2803680" cy="1143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419720" y="152280"/>
            <a:ext cx="45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Computer Sciences Corp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University of Manche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S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Sep06%5E28" descr=""/>
          <p:cNvPicPr/>
          <p:nvPr/>
        </p:nvPicPr>
        <p:blipFill>
          <a:blip r:embed="rId3"/>
          <a:stretch/>
        </p:blipFill>
        <p:spPr>
          <a:xfrm>
            <a:off x="0" y="3824280"/>
            <a:ext cx="4572000" cy="30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A4A-7823-4D8D-AC8C-EB93B338C30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9T13:57:04Z</dcterms:created>
  <dc:creator>W T Hewitt</dc:creator>
  <dc:description/>
  <dc:language>en-US</dc:language>
  <cp:lastModifiedBy>W T Hewitt</cp:lastModifiedBy>
  <cp:lastPrinted>2000-10-04T11:07:16Z</cp:lastPrinted>
  <dcterms:modified xsi:type="dcterms:W3CDTF">2000-10-06T12:20:20Z</dcterms:modified>
  <cp:revision>32</cp:revision>
  <dc:subject/>
  <dc:title>Proposal to host Euro-Par 2001 in Manchester UK </dc:title>
</cp:coreProperties>
</file>